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066-9A97-4651-984A-CB6B3493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71F-74CB-45A2-9076-8C430999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57D-4F94-49E0-BA7E-331F7569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086-B7A8-4DA5-849D-E75BE28C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7310-2372-4E69-B159-93C51918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B54B-379F-4B37-A90F-3F38D3CC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53C7-098A-4142-82BE-E3D22F5F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041B-3F3B-4E9A-A139-8362657C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0E25-5C5C-44CC-9962-84B25427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2BB2-0CBF-47D0-A613-D0ECC6CC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A138-5475-4A7A-AC02-533E371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B4A-5EF3-4F5F-AE07-8DECC87B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64F0-0FA7-4305-B7D4-FFC67517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1541-3090-4531-BF07-968AB1FA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AFC7-31CD-4BDC-8E42-5777DD66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60A9-BB7A-48FC-B589-973C2ABF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7BBA-EC3F-4195-88E8-296A89DE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CF993-5445-4E60-9995-019E84DC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57BA-1055-4C7C-9C6C-AF46DFA7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D8C16-2EEB-4F9F-A86D-BAA50589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4220-40CF-46B6-AE96-4A0C969C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87F2-D565-47D3-961A-A2F16B8C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89B-1985-4E65-8AAD-81A2CF9C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51F0-EBC0-4C9B-8EAC-0A96C89C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7619-E883-4935-ABB1-EC56B1F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067D-6B01-4A1D-955D-362F1B07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FC86-8C8C-4F74-B120-9FF2175A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956E-3573-46CD-8646-036A726B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D31C-EE19-4A9A-A5E0-F45F3661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B1DD-3BBD-462C-B9BE-959ADA3C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5D03E-113C-4F11-83BA-E3B1D6EB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9CBA-80A4-4E97-B666-0CACD77A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50FBF-5323-4A98-A690-25920EBE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7CB-5BEA-4365-B3F8-17505950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5CB43-0448-493F-97F3-EF103D7B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60BC-359D-44B8-A3EE-79930410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2FA5-0D3A-402D-909C-AC51FB20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2F49-B0A1-48C4-9C53-A095BDE2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04FC-BF6B-4594-8C83-BB856FB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F2BA-A9DA-41C5-962C-980C313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25E0-F515-4E10-B134-9B3CD115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82568-58B4-4BB2-93DA-50BC2D33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ADEF-8601-4A36-9D55-2A3001EC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40A3-684A-4187-BE29-3435A50E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0A3-C869-4C7F-87D4-3DB70CEE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1D27E-5D0F-487A-A372-DBEA0592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38A6C-5EB7-42C7-8AEF-311B3F46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116D3-B56B-44BB-BB84-2208AE2F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71222-ADB9-43A5-9F79-544E4606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375E2-9B05-4BD7-93D6-1523056F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C5C71-623F-4C19-83C0-732A5536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44AF-EDD6-4197-BAF1-F6216916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713C1-518A-4EF9-96BA-5F58EC3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52D00-B290-4F0D-AFA1-212E7D30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CD5A8-60FD-476A-876E-7B4CA484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235-6CF1-4B76-9C49-CF2A0AC6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890EF-045C-48CE-B3DB-BD5BA722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58F65-3798-4DFB-94BB-A4FDB5AF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CEDA4-D6FC-47BC-88D9-52488CAC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DE87-1B00-4C35-9BD5-CE276449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0D05B-8C0C-4F54-A786-A5519110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C6AC4-FFB9-4E32-8F96-3A197197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821A8-8374-4702-BBC4-41F8BD90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9BF44-D0F2-4C7E-96C9-E05A97A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AF598-F26D-41D2-9FCF-D97CFF54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7E171-7347-43C5-A431-69435310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409-EF2F-4972-8D15-54053960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32C79-E4D4-4686-AE3C-13507D4D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F759C-379D-4F9E-BDA5-30617A06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83F2C-10BB-4D63-BBF0-E39DA06F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746B4-9FF7-4F4E-80D8-80EDAA28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6186E-8A48-42B9-951D-2CCE0449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15A00-8E63-47AC-992D-3ED6F4B1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26445-DD37-4125-88BA-20D2DC2F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0748A-95B6-4C9B-8D9B-8DE7065D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FF02F-743B-464E-87D9-30ABC588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26B47-2F86-44BC-9E07-2B7CFF3F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5B0-CA10-42F1-96DA-BCA60811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80F4F-9F58-4273-9AAD-A4C2EF13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FA322-0222-41B2-AB19-9BF9370E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8874A-5918-420F-AD14-4198909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99554-054D-4884-9A42-8E57F161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D8410-B4FC-46CA-B23D-1BAD7F61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2A4-09F5-4C6E-9140-C5254398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9C3B-4E07-4F9C-91C7-39A1CDE7DBBE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78D1-784E-46F4-97BA-723AB1B93C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AD9-62A0-4BC3-BD73-BBD4F1C03362}" type="datetime">
              <a:rPr b="1" lang="ru-RU" sz="1400" spc="-1" strike="noStrike">
                <a:solidFill>
                  <a:srgbClr val="464653"/>
                </a:solidFill>
                <a:latin typeface="Arial"/>
              </a:rPr>
              <a:t>31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C652-6177-4C34-B68F-D8C90D329521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27ED-807F-4626-8193-B98608052EF4}" type="datetime">
              <a:rPr b="1" lang="ru-RU" sz="1400" spc="-1" strike="noStrike">
                <a:solidFill>
                  <a:srgbClr val="dde9ec"/>
                </a:solidFill>
                <a:latin typeface="Arial"/>
              </a:rPr>
              <a:t>31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B356-11E1-438B-A364-E6C7082910A5}" type="slidenum">
              <a:rPr b="1" lang="en-US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CDFA-0155-4839-82E3-C14194B58BD2}" type="datetime">
              <a:rPr b="1" lang="ru-RU" sz="1400" spc="-1" strike="noStrike">
                <a:solidFill>
                  <a:srgbClr val="464653"/>
                </a:solidFill>
                <a:latin typeface="Arial"/>
              </a:rPr>
              <a:t>31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B78E-8997-43E0-8F34-E6F27C81B344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05E4-B056-4FD5-9B59-EF24A65B759B}" type="datetime">
              <a:rPr b="1" lang="ru-RU" sz="1400" spc="-1" strike="noStrike">
                <a:solidFill>
                  <a:srgbClr val="464653"/>
                </a:solidFill>
                <a:latin typeface="Arial"/>
              </a:rPr>
              <a:t>31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F735-3FFD-47ED-8698-6A87A2AE1417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36C5-9AAF-4DE4-B7B1-E3F41CC6D5DC}" type="datetime">
              <a:rPr b="1" lang="ru-RU" sz="1400" spc="-1" strike="noStrike">
                <a:solidFill>
                  <a:srgbClr val="dde9ec"/>
                </a:solidFill>
                <a:latin typeface="Arial"/>
              </a:rPr>
              <a:t>31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A34E-7E73-48D7-87E0-DCFACC050212}" type="slidenum">
              <a:rPr b="1" lang="en-US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2382-ACD3-40C9-86FC-F2E2543A7A96}" type="datetime">
              <a:rPr b="1" lang="ru-RU" sz="1400" spc="-1" strike="noStrike">
                <a:solidFill>
                  <a:srgbClr val="464653"/>
                </a:solidFill>
                <a:latin typeface="Arial"/>
              </a:rPr>
              <a:t>31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A072-55E7-4585-A279-715585F14E3E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hyperlink" Target="mailto:fumfskal@mail.ru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F0F5-D2E7-41F8-B28A-D590411651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gerb"/>
          <p:cNvPicPr/>
          <p:nvPr/>
        </p:nvPicPr>
        <p:blipFill>
          <a:blip r:embed="rId2"/>
          <a:stretch/>
        </p:blipFill>
        <p:spPr>
          <a:xfrm>
            <a:off x="372960" y="66600"/>
            <a:ext cx="1038240" cy="1428840"/>
          </a:xfrm>
          <a:prstGeom prst="rect">
            <a:avLst/>
          </a:prstGeom>
          <a:ln w="0">
            <a:noFill/>
          </a:ln>
        </p:spPr>
      </p:pic>
      <p:sp>
        <p:nvSpPr>
          <p:cNvPr id="306" name="WordArt 6"/>
          <p:cNvSpPr txBox="1"/>
          <p:nvPr/>
        </p:nvSpPr>
        <p:spPr>
          <a:xfrm>
            <a:off x="2843280" y="333360"/>
            <a:ext cx="35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160234"/>
                    </a:gs>
                  </a:gsLst>
                  <a:lin ang="5400000"/>
                </a:gradFill>
                <a:latin typeface="Times New Roman"/>
              </a:rPr>
              <a:t>«БЮДЖЕТ ДЛ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160234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160234"/>
                    </a:gs>
                  </a:gsLst>
                  <a:lin ang="5400000"/>
                </a:gradFill>
                <a:latin typeface="Times New Roman"/>
              </a:rPr>
              <a:t>ГРАЖДАН»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16023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2916360" y="6254640"/>
            <a:ext cx="33336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160234"/>
                    </a:gs>
                  </a:gsLst>
                  <a:lin ang="5400000"/>
                </a:gradFill>
                <a:latin typeface="Times New Roman"/>
              </a:rPr>
              <a:t>с. АЛЕКСАНДРОВСКО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16023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826920" y="2708280"/>
            <a:ext cx="720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ПОЛОЖ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A0D4-31FF-449E-96D5-29712BE891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"/>
          <p:cNvSpPr/>
          <p:nvPr/>
        </p:nvSpPr>
        <p:spPr>
          <a:xfrm>
            <a:off x="1071720" y="4046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личия форм межбюджетных трансфер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468360" y="1197000"/>
          <a:ext cx="8351640" cy="4608360"/>
        </p:xfrm>
        <a:graphic>
          <a:graphicData uri="http://schemas.openxmlformats.org/drawingml/2006/table">
            <a:tbl>
              <a:tblPr/>
              <a:tblGrid>
                <a:gridCol w="1655640"/>
                <a:gridCol w="1727280"/>
                <a:gridCol w="2665440"/>
                <a:gridCol w="2303280"/>
              </a:tblGrid>
              <a:tr h="48096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иции для сравн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Дотац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бве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бси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  <a:tr h="100980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безвозвратность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ый возврат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она была израсходована не вовремя либо не по целевому назначени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  <a:tr h="68724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г ли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у другого уровн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у другого уровн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 юридическому лиц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у другого уровня, а так же юридическому лиц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 физическому лиц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  <a:tr h="70164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 предоставл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текущих расходо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ое назначение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гий контроль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пределенный срок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ое назначе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  <a:tr h="108108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инвести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текущие расходы, связанные с необходимостью дополнительного финансиров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жет полностью покрыть стоим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евое участ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  <a:tr h="64764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а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а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ая и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уральная (продукты питания, учебники и т.п.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</a:tbl>
          </a:graphicData>
        </a:graphic>
      </p:graphicFrame>
      <p:sp>
        <p:nvSpPr>
          <p:cNvPr id="449" name="Rectangle 1"/>
          <p:cNvSpPr/>
          <p:nvPr/>
        </p:nvSpPr>
        <p:spPr>
          <a:xfrm>
            <a:off x="214200" y="142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4"/>
          <p:cNvSpPr/>
          <p:nvPr/>
        </p:nvSpPr>
        <p:spPr>
          <a:xfrm>
            <a:off x="468360" y="6524640"/>
            <a:ext cx="8288280" cy="333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CA01-1808-4D76-A3CC-7C5AC1C821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54"/>
          <p:cNvSpPr/>
          <p:nvPr/>
        </p:nvSpPr>
        <p:spPr>
          <a:xfrm>
            <a:off x="179280" y="620640"/>
            <a:ext cx="8678880" cy="631800"/>
          </a:xfrm>
          <a:prstGeom prst="roundRect">
            <a:avLst>
              <a:gd name="adj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ffc000"/>
            </a:solidFill>
            <a:miter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Расх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денежные средства, направляемые на финансов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задач и функций местного самоуправления в соответствии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ом Российской Фед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19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c4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Что такое расходы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агетная рамка 21"/>
          <p:cNvSpPr/>
          <p:nvPr/>
        </p:nvSpPr>
        <p:spPr>
          <a:xfrm>
            <a:off x="4067280" y="1916280"/>
            <a:ext cx="4786200" cy="4032000"/>
          </a:xfrm>
          <a:prstGeom prst="bevel">
            <a:avLst>
              <a:gd name="adj" fmla="val 12500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Принципы формирования расходов бюджет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 ведомственной структуре (в разрезе ГРБС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 муниципальным программ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0" descr="Кошелек Out"/>
          <p:cNvPicPr/>
          <p:nvPr/>
        </p:nvPicPr>
        <p:blipFill>
          <a:blip r:embed="rId2"/>
          <a:stretch/>
        </p:blipFill>
        <p:spPr>
          <a:xfrm>
            <a:off x="684360" y="1844640"/>
            <a:ext cx="258444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99B8-ADD6-4CBB-9584-92B79DBC1C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Рисунок 7" descr="16396227_f.jpg"/>
          <p:cNvPicPr/>
          <p:nvPr/>
        </p:nvPicPr>
        <p:blipFill>
          <a:blip r:embed="rId2"/>
          <a:stretch/>
        </p:blipFill>
        <p:spPr>
          <a:xfrm>
            <a:off x="0" y="950760"/>
            <a:ext cx="9144000" cy="5380200"/>
          </a:xfrm>
          <a:prstGeom prst="rect">
            <a:avLst/>
          </a:prstGeom>
          <a:ln w="0">
            <a:noFill/>
          </a:ln>
        </p:spPr>
      </p:pic>
      <p:pic>
        <p:nvPicPr>
          <p:cNvPr id="458" name="Схема 2" descr=""/>
          <p:cNvPicPr/>
          <p:nvPr/>
        </p:nvPicPr>
        <p:blipFill>
          <a:blip r:embed="rId3"/>
          <a:stretch/>
        </p:blipFill>
        <p:spPr>
          <a:xfrm>
            <a:off x="-42840" y="927000"/>
            <a:ext cx="9186840" cy="546120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0"/>
          <p:cNvSpPr/>
          <p:nvPr/>
        </p:nvSpPr>
        <p:spPr>
          <a:xfrm>
            <a:off x="-31680" y="0"/>
            <a:ext cx="917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ведомственной структуре расходов районного бюджета утверждаютс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9"/>
          <p:cNvSpPr/>
          <p:nvPr/>
        </p:nvSpPr>
        <p:spPr>
          <a:xfrm>
            <a:off x="395280" y="1844640"/>
            <a:ext cx="8064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b08d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31F2-DBE8-400B-9D83-3AB9FFB7FF0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"/>
          <p:cNvSpPr/>
          <p:nvPr/>
        </p:nvSpPr>
        <p:spPr>
          <a:xfrm>
            <a:off x="324000" y="260280"/>
            <a:ext cx="7286400" cy="776520"/>
          </a:xfrm>
          <a:prstGeom prst="rect">
            <a:avLst/>
          </a:prstGeom>
          <a:gradFill rotWithShape="0">
            <a:gsLst>
              <a:gs pos="0">
                <a:srgbClr val="e2ebf5"/>
              </a:gs>
              <a:gs pos="100000">
                <a:srgbClr val="f6f9fd"/>
              </a:gs>
            </a:gsLst>
            <a:lin ang="16200000"/>
          </a:gradFill>
          <a:ln w="9360">
            <a:solidFill>
              <a:srgbClr val="c9d0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йонный бюджет формируется на основе  муниципальных програм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684360" y="1916280"/>
            <a:ext cx="7488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ая цель программного бюджета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ышение результативности бюджетных расход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Багетная рамка 8"/>
          <p:cNvSpPr/>
          <p:nvPr/>
        </p:nvSpPr>
        <p:spPr>
          <a:xfrm>
            <a:off x="1547640" y="3429000"/>
            <a:ext cx="7358400" cy="2500200"/>
          </a:xfrm>
          <a:prstGeom prst="bevel">
            <a:avLst>
              <a:gd name="adj" fmla="val 12500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ый бюджет позволит обеспечить повышение прозрачности и понятности бюджетных расходов не только для специалистов, а для широкого круга ли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A4CF-A329-447E-998C-D6A8A84E19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-353160"/>
            <a:ext cx="7072200" cy="35316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ecf0f4"/>
              </a:gs>
            </a:gsLst>
            <a:lin ang="162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7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67" name="Заголовок 3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28760" y="3071520"/>
            <a:ext cx="1428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Заголовок 3"/>
          <p:cNvSpPr/>
          <p:nvPr/>
        </p:nvSpPr>
        <p:spPr>
          <a:xfrm>
            <a:off x="0" y="642960"/>
            <a:ext cx="9144000" cy="57132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ecf0f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– Расходы = Дефицит (Профицит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Содержимое 11" descr="deng84.png"/>
          <p:cNvPicPr/>
          <p:nvPr/>
        </p:nvPicPr>
        <p:blipFill>
          <a:blip r:embed="rId2"/>
          <a:stretch/>
        </p:blipFill>
        <p:spPr>
          <a:xfrm>
            <a:off x="611280" y="2276640"/>
            <a:ext cx="1233360" cy="930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5678640" y="3569760"/>
            <a:ext cx="138888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136240" y="3573000"/>
            <a:ext cx="138924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308360" y="3144600"/>
            <a:ext cx="14288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Блок-схема: альтернативный процесс 24"/>
          <p:cNvSpPr/>
          <p:nvPr/>
        </p:nvSpPr>
        <p:spPr>
          <a:xfrm>
            <a:off x="0" y="5445000"/>
            <a:ext cx="4500720" cy="1413000"/>
          </a:xfrm>
          <a:prstGeom prst="flowChartAlternateProcess">
            <a:avLst/>
          </a:prstGeom>
          <a:gradFill rotWithShape="0">
            <a:gsLst>
              <a:gs pos="0">
                <a:srgbClr val="ff4747"/>
              </a:gs>
              <a:gs pos="100000">
                <a:srgbClr val="ffc2c2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вышении расходов над доходами принимается решение об источниках покрытия дефицита (например, использовать имеющиеся накопления, остатки, взять в долг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Содержимое 11" descr="deng84.png"/>
          <p:cNvPicPr/>
          <p:nvPr/>
        </p:nvPicPr>
        <p:blipFill>
          <a:blip r:embed="rId3"/>
          <a:stretch/>
        </p:blipFill>
        <p:spPr>
          <a:xfrm>
            <a:off x="2050920" y="2276640"/>
            <a:ext cx="1859040" cy="1403280"/>
          </a:xfrm>
          <a:prstGeom prst="rect">
            <a:avLst/>
          </a:prstGeom>
          <a:ln w="0">
            <a:noFill/>
          </a:ln>
        </p:spPr>
      </p:pic>
      <p:pic>
        <p:nvPicPr>
          <p:cNvPr id="476" name="Содержимое 11" descr="deng84.png"/>
          <p:cNvPicPr/>
          <p:nvPr/>
        </p:nvPicPr>
        <p:blipFill>
          <a:blip r:embed="rId4"/>
          <a:stretch/>
        </p:blipFill>
        <p:spPr>
          <a:xfrm>
            <a:off x="5305320" y="2276640"/>
            <a:ext cx="1859040" cy="14032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11" descr="deng84.png"/>
          <p:cNvPicPr/>
          <p:nvPr/>
        </p:nvPicPr>
        <p:blipFill>
          <a:blip r:embed="rId5"/>
          <a:stretch/>
        </p:blipFill>
        <p:spPr>
          <a:xfrm>
            <a:off x="7308720" y="2276640"/>
            <a:ext cx="1233720" cy="931680"/>
          </a:xfrm>
          <a:prstGeom prst="rect">
            <a:avLst/>
          </a:prstGeom>
          <a:ln w="0">
            <a:noFill/>
          </a:ln>
        </p:spPr>
      </p:pic>
      <p:sp>
        <p:nvSpPr>
          <p:cNvPr id="478" name="Блок-схема: альтернативный процесс 25"/>
          <p:cNvSpPr/>
          <p:nvPr/>
        </p:nvSpPr>
        <p:spPr>
          <a:xfrm>
            <a:off x="4643280" y="5445000"/>
            <a:ext cx="4500720" cy="1413000"/>
          </a:xfrm>
          <a:prstGeom prst="flowChartAlternateProcess">
            <a:avLst/>
          </a:prstGeom>
          <a:gradFill rotWithShape="0">
            <a:gsLst>
              <a:gs pos="0">
                <a:srgbClr val="ccddee"/>
              </a:gs>
              <a:gs pos="100000">
                <a:srgbClr val="f0f5fb"/>
              </a:gs>
            </a:gsLst>
            <a:lin ang="16200000"/>
          </a:gradFill>
          <a:ln w="9360">
            <a:solidFill>
              <a:srgbClr val="9fae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вышении доходов над расходами принимается решение, как их использовать (например, накапливать резервы, остатки, погашать долг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Блок-схема: альтернативный процесс 26"/>
          <p:cNvSpPr/>
          <p:nvPr/>
        </p:nvSpPr>
        <p:spPr>
          <a:xfrm>
            <a:off x="0" y="4373640"/>
            <a:ext cx="4500720" cy="1000080"/>
          </a:xfrm>
          <a:prstGeom prst="flowChartAlternateProcess">
            <a:avLst/>
          </a:prstGeom>
          <a:gradFill rotWithShape="0">
            <a:gsLst>
              <a:gs pos="0">
                <a:srgbClr val="ff4747"/>
              </a:gs>
              <a:gs pos="100000">
                <a:srgbClr val="ffc2c2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ходы больше доходов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Блок-схема: альтернативный процесс 30"/>
          <p:cNvSpPr/>
          <p:nvPr/>
        </p:nvSpPr>
        <p:spPr>
          <a:xfrm>
            <a:off x="4643280" y="4367160"/>
            <a:ext cx="4500720" cy="1000080"/>
          </a:xfrm>
          <a:prstGeom prst="flowChartAlternateProcess">
            <a:avLst/>
          </a:prstGeom>
          <a:gradFill rotWithShape="0">
            <a:gsLst>
              <a:gs pos="0">
                <a:srgbClr val="ccddee"/>
              </a:gs>
              <a:gs pos="100000">
                <a:srgbClr val="f0f5fb"/>
              </a:gs>
            </a:gsLst>
            <a:lin ang="16200000"/>
          </a:gradFill>
          <a:ln w="9360">
            <a:solidFill>
              <a:srgbClr val="9fae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ци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ходы больше расходов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Блок-схема: альтернативный процесс 33"/>
          <p:cNvSpPr/>
          <p:nvPr/>
        </p:nvSpPr>
        <p:spPr>
          <a:xfrm>
            <a:off x="0" y="4149720"/>
            <a:ext cx="4500720" cy="71280"/>
          </a:xfrm>
          <a:prstGeom prst="flowChartAlternateProcess">
            <a:avLst/>
          </a:prstGeom>
          <a:gradFill rotWithShape="0">
            <a:gsLst>
              <a:gs pos="0">
                <a:srgbClr val="ff4747"/>
              </a:gs>
              <a:gs pos="100000">
                <a:srgbClr val="ffc2c2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Блок-схема: альтернативный процесс 34"/>
          <p:cNvSpPr/>
          <p:nvPr/>
        </p:nvSpPr>
        <p:spPr>
          <a:xfrm>
            <a:off x="4643280" y="4149720"/>
            <a:ext cx="4500720" cy="61920"/>
          </a:xfrm>
          <a:prstGeom prst="flowChartAlternateProcess">
            <a:avLst/>
          </a:prstGeom>
          <a:gradFill rotWithShape="0">
            <a:gsLst>
              <a:gs pos="0">
                <a:srgbClr val="ccddee"/>
              </a:gs>
              <a:gs pos="100000">
                <a:srgbClr val="f0f5fb"/>
              </a:gs>
            </a:gsLst>
            <a:lin ang="16200000"/>
          </a:gradFill>
          <a:ln w="9360">
            <a:solidFill>
              <a:srgbClr val="9fae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9" descr="Arrow"/>
          <p:cNvPicPr/>
          <p:nvPr/>
        </p:nvPicPr>
        <p:blipFill>
          <a:blip r:embed="rId6"/>
          <a:stretch/>
        </p:blipFill>
        <p:spPr>
          <a:xfrm>
            <a:off x="826920" y="1700280"/>
            <a:ext cx="622440" cy="5396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0" descr="Arrow"/>
          <p:cNvPicPr/>
          <p:nvPr/>
        </p:nvPicPr>
        <p:blipFill>
          <a:blip r:embed="rId7"/>
          <a:stretch/>
        </p:blipFill>
        <p:spPr>
          <a:xfrm>
            <a:off x="2556000" y="1700280"/>
            <a:ext cx="622080" cy="539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1" descr="Arrow"/>
          <p:cNvPicPr/>
          <p:nvPr/>
        </p:nvPicPr>
        <p:blipFill>
          <a:blip r:embed="rId8"/>
          <a:stretch/>
        </p:blipFill>
        <p:spPr>
          <a:xfrm>
            <a:off x="5867280" y="1700280"/>
            <a:ext cx="622440" cy="539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2" descr="Arrow"/>
          <p:cNvPicPr/>
          <p:nvPr/>
        </p:nvPicPr>
        <p:blipFill>
          <a:blip r:embed="rId9"/>
          <a:stretch/>
        </p:blipFill>
        <p:spPr>
          <a:xfrm>
            <a:off x="7451640" y="1700280"/>
            <a:ext cx="6224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A48A-7B47-405E-8EA4-8366C440AB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Заголовок 1"/>
          <p:cNvGrpSpPr/>
          <p:nvPr/>
        </p:nvGrpSpPr>
        <p:grpSpPr>
          <a:xfrm>
            <a:off x="633240" y="493560"/>
            <a:ext cx="7785360" cy="652680"/>
            <a:chOff x="633240" y="493560"/>
            <a:chExt cx="7785360" cy="652680"/>
          </a:xfrm>
        </p:grpSpPr>
        <p:pic>
          <p:nvPicPr>
            <p:cNvPr id="48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633240" y="493560"/>
              <a:ext cx="77853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42960" y="500040"/>
              <a:ext cx="77724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Verdana"/>
                </a:rPr>
                <a:t>Информация для справок    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Подзаголовок 2"/>
          <p:cNvGrpSpPr/>
          <p:nvPr/>
        </p:nvGrpSpPr>
        <p:grpSpPr>
          <a:xfrm>
            <a:off x="596880" y="1762200"/>
            <a:ext cx="8089920" cy="3767040"/>
            <a:chOff x="596880" y="1762200"/>
            <a:chExt cx="8089920" cy="3767040"/>
          </a:xfrm>
        </p:grpSpPr>
        <p:pic>
          <p:nvPicPr>
            <p:cNvPr id="492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596880" y="1762200"/>
              <a:ext cx="808992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611280" y="1773360"/>
              <a:ext cx="8064360" cy="37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Финансовое управление администрации  Александровского муниципального района Ставропольского края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Местонахождение: 356 300  Ставропольский край,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с. Александровское ул. Карла Маркса, 69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Телефон (факс): 2–67-97 (2-77-14)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Адрес электронной почты: </a:t>
              </a:r>
              <a:r>
                <a:rPr b="0" lang="en-US" sz="2200" spc="-1" strike="noStrike" u="sng">
                  <a:solidFill>
                    <a:srgbClr val="336699"/>
                  </a:solidFill>
                  <a:uFillTx/>
                  <a:latin typeface="Bookman Old Style"/>
                  <a:hlinkClick r:id="rId4"/>
                </a:rPr>
                <a:t>fumfskal@mail.ru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График работы: с 8:00 до 17:00 понедельник-пятница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045E-BF1F-4D90-85CE-396C7D45F5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7" descr="Picture2"/>
          <p:cNvPicPr/>
          <p:nvPr/>
        </p:nvPicPr>
        <p:blipFill>
          <a:blip r:embed="rId2"/>
          <a:stretch/>
        </p:blipFill>
        <p:spPr>
          <a:xfrm>
            <a:off x="2843280" y="321300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311" name="Выгнутая вверх стрелка 17"/>
          <p:cNvSpPr/>
          <p:nvPr/>
        </p:nvSpPr>
        <p:spPr>
          <a:xfrm>
            <a:off x="4356000" y="2968560"/>
            <a:ext cx="2712960" cy="557280"/>
          </a:xfrm>
          <a:custGeom>
            <a:avLst/>
            <a:gdLst>
              <a:gd name="textAreaLeft" fmla="*/ 619920 w 2712960"/>
              <a:gd name="textAreaRight" fmla="*/ 2015280 w 2712960"/>
              <a:gd name="textAreaTop" fmla="*/ 74520 h 557280"/>
              <a:gd name="textAreaBottom" fmla="*/ 4827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71" hR="21600" stAng="10800000" swAng="5400000"/>
                <a:lnTo>
                  <a:pt x="11110" y="0"/>
                </a:lnTo>
                <a:arcTo wR="9871" hR="21600" stAng="-5400000" swAng="3631944"/>
                <a:lnTo>
                  <a:pt x="21287" y="16200"/>
                </a:lnTo>
                <a:lnTo>
                  <a:pt x="20361" y="21600"/>
                </a:lnTo>
                <a:lnTo>
                  <a:pt x="18808" y="16200"/>
                </a:lnTo>
                <a:lnTo>
                  <a:pt x="19428" y="16200"/>
                </a:lnTo>
                <a:arcTo wR="9871" hR="21600" stAng="-1768056" swAng="-3533179"/>
                <a:lnTo>
                  <a:pt x="10490" y="43"/>
                </a:lnTo>
                <a:arcTo wR="9871" hR="21600" stAng="-5498764" swAng="-5301236"/>
                <a:close/>
              </a:path>
              <a:path fill="darkenLess" w="21600" h="21600">
                <a:moveTo>
                  <a:pt x="0" y="21600"/>
                </a:moveTo>
                <a:arcTo wR="9871" hR="21600" stAng="10800000" swAng="5400000"/>
                <a:lnTo>
                  <a:pt x="9871" y="0"/>
                </a:lnTo>
                <a:arcTo wR="9871" hR="21600" stAng="-5400000" swAng="98764"/>
                <a:lnTo>
                  <a:pt x="10490" y="43"/>
                </a:lnTo>
                <a:arcTo wR="9871" hR="21600" stAng="-5498764" swAng="-5301236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Выгнутая вверх стрелка 18"/>
          <p:cNvSpPr/>
          <p:nvPr/>
        </p:nvSpPr>
        <p:spPr>
          <a:xfrm rot="240000">
            <a:off x="1547640" y="3090600"/>
            <a:ext cx="2318040" cy="557280"/>
          </a:xfrm>
          <a:custGeom>
            <a:avLst/>
            <a:gdLst>
              <a:gd name="textAreaLeft" fmla="*/ 527040 w 2318040"/>
              <a:gd name="textAreaRight" fmla="*/ 1721160 w 2318040"/>
              <a:gd name="textAreaTop" fmla="*/ 74520 h 557280"/>
              <a:gd name="textAreaBottom" fmla="*/ 4827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7" hR="21600" stAng="10800000" swAng="5400000"/>
                <a:lnTo>
                  <a:pt x="11125" y="0"/>
                </a:lnTo>
                <a:arcTo wR="9827" hR="21600" stAng="-5400000" swAng="3625358"/>
                <a:lnTo>
                  <a:pt x="21288" y="16200"/>
                </a:lnTo>
                <a:lnTo>
                  <a:pt x="20302" y="21600"/>
                </a:lnTo>
                <a:lnTo>
                  <a:pt x="18692" y="16200"/>
                </a:lnTo>
                <a:lnTo>
                  <a:pt x="19341" y="16200"/>
                </a:lnTo>
                <a:arcTo wR="9827" hR="21600" stAng="-1774642" swAng="-3521872"/>
                <a:lnTo>
                  <a:pt x="10476" y="47"/>
                </a:lnTo>
                <a:arcTo wR="9827" hR="21600" stAng="-5503486" swAng="-5296514"/>
                <a:close/>
              </a:path>
              <a:path fill="darkenLess" w="21600" h="21600">
                <a:moveTo>
                  <a:pt x="0" y="21600"/>
                </a:moveTo>
                <a:arcTo wR="9827" hR="21600" stAng="10800000" swAng="5400000"/>
                <a:lnTo>
                  <a:pt x="9827" y="0"/>
                </a:lnTo>
                <a:arcTo wR="9827" hR="21600" stAng="-5400000" swAng="103486"/>
                <a:lnTo>
                  <a:pt x="10476" y="47"/>
                </a:lnTo>
                <a:arcTo wR="9827" hR="21600" stAng="-5503486" swAng="-5296514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6"/>
          <p:cNvSpPr/>
          <p:nvPr/>
        </p:nvSpPr>
        <p:spPr>
          <a:xfrm>
            <a:off x="576360" y="9921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Что такое бюджет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2"/>
          <p:cNvGrpSpPr/>
          <p:nvPr/>
        </p:nvGrpSpPr>
        <p:grpSpPr>
          <a:xfrm>
            <a:off x="531720" y="1773360"/>
            <a:ext cx="8432640" cy="863640"/>
            <a:chOff x="531720" y="1773360"/>
            <a:chExt cx="8432640" cy="863640"/>
          </a:xfrm>
        </p:grpSpPr>
        <p:sp>
          <p:nvSpPr>
            <p:cNvPr id="315" name="AutoShape 54"/>
            <p:cNvSpPr/>
            <p:nvPr/>
          </p:nvSpPr>
          <p:spPr>
            <a:xfrm>
              <a:off x="531720" y="1773360"/>
              <a:ext cx="8351640" cy="863640"/>
            </a:xfrm>
            <a:prstGeom prst="roundRect">
              <a:avLst>
                <a:gd name="adj" fmla="val 16667"/>
              </a:avLst>
            </a:prstGeom>
            <a:solidFill>
              <a:srgbClr val="ffff66">
                <a:alpha val="50000"/>
              </a:srgbClr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Прямоугольник 2"/>
            <p:cNvSpPr/>
            <p:nvPr/>
          </p:nvSpPr>
          <p:spPr>
            <a:xfrm>
              <a:off x="603000" y="1773360"/>
              <a:ext cx="8361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7030a0"/>
                  </a:solidFill>
                  <a:latin typeface="Arial"/>
                </a:rPr>
                <a:t>Бюджет</a:t>
              </a:r>
              <a:r>
                <a:rPr b="1" lang="ru-RU" sz="21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ru-RU" sz="2100" spc="-1" strike="noStrike">
                  <a:solidFill>
                    <a:srgbClr val="473a35"/>
                  </a:solidFill>
                  <a:latin typeface="Arial"/>
                </a:rPr>
                <a:t>образование </a:t>
              </a: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ru-RU" sz="2100" spc="-1" strike="noStrike">
                  <a:solidFill>
                    <a:srgbClr val="0070c0"/>
                  </a:solidFill>
                  <a:latin typeface="Arial"/>
                </a:rPr>
                <a:t>расходование</a:t>
              </a: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 денежных средств,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способствующих решению задач местного самоуправления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Picture 24" descr="Quizz_transparent1"/>
          <p:cNvPicPr/>
          <p:nvPr/>
        </p:nvPicPr>
        <p:blipFill>
          <a:blip r:embed="rId3"/>
          <a:stretch/>
        </p:blipFill>
        <p:spPr>
          <a:xfrm>
            <a:off x="7308720" y="260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5" descr="Кошелек In"/>
          <p:cNvPicPr/>
          <p:nvPr/>
        </p:nvPicPr>
        <p:blipFill>
          <a:blip r:embed="rId4"/>
          <a:stretch/>
        </p:blipFill>
        <p:spPr>
          <a:xfrm>
            <a:off x="611280" y="3573360"/>
            <a:ext cx="1676160" cy="2516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6" descr="Кошелек Out"/>
          <p:cNvPicPr/>
          <p:nvPr/>
        </p:nvPicPr>
        <p:blipFill>
          <a:blip r:embed="rId5"/>
          <a:stretch/>
        </p:blipFill>
        <p:spPr>
          <a:xfrm>
            <a:off x="6659640" y="3573360"/>
            <a:ext cx="1573200" cy="251964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12"/>
          <p:cNvSpPr/>
          <p:nvPr/>
        </p:nvSpPr>
        <p:spPr>
          <a:xfrm rot="16200000">
            <a:off x="5984640" y="432432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Расх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3"/>
          <p:cNvSpPr/>
          <p:nvPr/>
        </p:nvSpPr>
        <p:spPr>
          <a:xfrm rot="5400000">
            <a:off x="943920" y="43459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Arial Black"/>
              </a:rPr>
              <a:t>Дох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28"/>
          <p:cNvSpPr txBox="1"/>
          <p:nvPr/>
        </p:nvSpPr>
        <p:spPr>
          <a:xfrm rot="20821200">
            <a:off x="3719520" y="4149360"/>
            <a:ext cx="1592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C461-0683-4BF6-AF1E-0C990FF245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Схема 6" descr=""/>
          <p:cNvPicPr/>
          <p:nvPr/>
        </p:nvPicPr>
        <p:blipFill>
          <a:blip r:embed="rId2"/>
          <a:stretch/>
        </p:blipFill>
        <p:spPr>
          <a:xfrm>
            <a:off x="4363920" y="1620720"/>
            <a:ext cx="4670640" cy="462132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12"/>
          <p:cNvGrpSpPr/>
          <p:nvPr/>
        </p:nvGrpSpPr>
        <p:grpSpPr>
          <a:xfrm>
            <a:off x="5148360" y="260280"/>
            <a:ext cx="3620880" cy="1569600"/>
            <a:chOff x="5148360" y="260280"/>
            <a:chExt cx="3620880" cy="1569600"/>
          </a:xfrm>
        </p:grpSpPr>
        <p:grpSp>
          <p:nvGrpSpPr>
            <p:cNvPr id="326" name="Скругленная прямоугольная выноска 7"/>
            <p:cNvGrpSpPr/>
            <p:nvPr/>
          </p:nvGrpSpPr>
          <p:grpSpPr>
            <a:xfrm>
              <a:off x="5148360" y="273240"/>
              <a:ext cx="3620880" cy="1556640"/>
              <a:chOff x="5148360" y="273240"/>
              <a:chExt cx="3620880" cy="1556640"/>
            </a:xfrm>
          </p:grpSpPr>
          <p:pic>
            <p:nvPicPr>
              <p:cNvPr id="327" name="Скругленная прямоугольная выноска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148360" y="273240"/>
                <a:ext cx="3620880" cy="155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587200" y="353520"/>
                <a:ext cx="3080880" cy="7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TextBox 9" descr=""/>
            <p:cNvPicPr/>
            <p:nvPr/>
          </p:nvPicPr>
          <p:blipFill>
            <a:blip r:embed="rId4"/>
            <a:stretch/>
          </p:blipFill>
          <p:spPr>
            <a:xfrm>
              <a:off x="5792040" y="260280"/>
              <a:ext cx="276300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0" name="Схема 8" descr=""/>
          <p:cNvPicPr/>
          <p:nvPr/>
        </p:nvPicPr>
        <p:blipFill>
          <a:blip r:embed="rId5"/>
          <a:stretch/>
        </p:blipFill>
        <p:spPr>
          <a:xfrm>
            <a:off x="695160" y="1305000"/>
            <a:ext cx="3498840" cy="52909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1"/>
          <p:cNvSpPr/>
          <p:nvPr/>
        </p:nvSpPr>
        <p:spPr>
          <a:xfrm>
            <a:off x="1403280" y="270828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ЛОГОПЛАТЕЛЬЩИК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1332000" y="4653000"/>
            <a:ext cx="223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ЛУЧАТЕЛЬ СОЦИАЛЬНЫХ ГАРАНТИЙ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3"/>
          <p:cNvSpPr txBox="1"/>
          <p:nvPr/>
        </p:nvSpPr>
        <p:spPr>
          <a:xfrm>
            <a:off x="468360" y="260280"/>
            <a:ext cx="4680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3b2c1"/>
                    </a:gs>
                    <a:gs pos="100000">
                      <a:srgbClr val="000099"/>
                    </a:gs>
                  </a:gsLst>
                  <a:lin ang="5400000"/>
                </a:gradFill>
                <a:latin typeface="Arial"/>
              </a:rPr>
              <a:t>ГРАЖДАНИН И ЕГО УЧАСТИЕ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3b2c1"/>
                  </a:gs>
                  <a:gs pos="100000">
                    <a:srgbClr val="0000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3b2c1"/>
                    </a:gs>
                    <a:gs pos="100000">
                      <a:srgbClr val="000099"/>
                    </a:gs>
                  </a:gsLst>
                  <a:lin ang="5400000"/>
                </a:gradFill>
                <a:latin typeface="Arial"/>
              </a:rPr>
              <a:t>В БЮДЖЕТНОМ ПРОЦЕСС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3b2c1"/>
                  </a:gs>
                  <a:gs pos="100000">
                    <a:srgbClr val="0000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F619-DB33-4CE3-9E04-DE9EFDE78F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Group 2" descr=""/>
          <p:cNvPicPr/>
          <p:nvPr/>
        </p:nvPicPr>
        <p:blipFill>
          <a:blip r:embed="rId2"/>
          <a:stretch/>
        </p:blipFill>
        <p:spPr>
          <a:xfrm>
            <a:off x="1042920" y="4621320"/>
            <a:ext cx="7272360" cy="118260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6"/>
          <p:cNvGrpSpPr/>
          <p:nvPr/>
        </p:nvGrpSpPr>
        <p:grpSpPr>
          <a:xfrm>
            <a:off x="1042920" y="3325680"/>
            <a:ext cx="7229160" cy="1071000"/>
            <a:chOff x="1042920" y="3325680"/>
            <a:chExt cx="7229160" cy="1071000"/>
          </a:xfrm>
        </p:grpSpPr>
        <p:sp>
          <p:nvSpPr>
            <p:cNvPr id="337" name="AutoShape 7"/>
            <p:cNvSpPr/>
            <p:nvPr/>
          </p:nvSpPr>
          <p:spPr>
            <a:xfrm>
              <a:off x="1042920" y="3325680"/>
              <a:ext cx="7229160" cy="107100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8"/>
            <p:cNvSpPr/>
            <p:nvPr/>
          </p:nvSpPr>
          <p:spPr>
            <a:xfrm>
              <a:off x="1101240" y="3363840"/>
              <a:ext cx="7145280" cy="47340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3b2c1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8"/>
          <p:cNvSpPr/>
          <p:nvPr/>
        </p:nvSpPr>
        <p:spPr>
          <a:xfrm>
            <a:off x="514440" y="3411360"/>
            <a:ext cx="685800" cy="685800"/>
          </a:xfrm>
          <a:prstGeom prst="diamond">
            <a:avLst/>
          </a:prstGeom>
          <a:solidFill>
            <a:srgbClr val="a3b2c1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628920" y="352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0"/>
          <p:cNvSpPr/>
          <p:nvPr/>
        </p:nvSpPr>
        <p:spPr>
          <a:xfrm>
            <a:off x="514440" y="4902120"/>
            <a:ext cx="685800" cy="685800"/>
          </a:xfrm>
          <a:prstGeom prst="diamond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659160" y="498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2"/>
          <p:cNvGrpSpPr/>
          <p:nvPr/>
        </p:nvGrpSpPr>
        <p:grpSpPr>
          <a:xfrm>
            <a:off x="1116000" y="1957320"/>
            <a:ext cx="7200720" cy="1142280"/>
            <a:chOff x="1116000" y="1957320"/>
            <a:chExt cx="7200720" cy="1142280"/>
          </a:xfrm>
        </p:grpSpPr>
        <p:sp>
          <p:nvSpPr>
            <p:cNvPr id="344" name="AutoShape 23"/>
            <p:cNvSpPr/>
            <p:nvPr/>
          </p:nvSpPr>
          <p:spPr>
            <a:xfrm>
              <a:off x="1116000" y="1957320"/>
              <a:ext cx="7200720" cy="114228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24"/>
            <p:cNvSpPr/>
            <p:nvPr/>
          </p:nvSpPr>
          <p:spPr>
            <a:xfrm>
              <a:off x="1174320" y="1998000"/>
              <a:ext cx="7117200" cy="50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66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AutoShape 26"/>
          <p:cNvSpPr/>
          <p:nvPr/>
        </p:nvSpPr>
        <p:spPr>
          <a:xfrm>
            <a:off x="500040" y="2187720"/>
            <a:ext cx="685800" cy="685800"/>
          </a:xfrm>
          <a:prstGeom prst="diamond">
            <a:avLst/>
          </a:prstGeom>
          <a:solidFill>
            <a:srgbClr val="336699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644760" y="233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94bac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проекта районного бюджета </a:t>
            </a:r>
            <a:br>
              <a:rPr sz="3000"/>
            </a:br>
            <a:r>
              <a:rPr b="1" i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уществляется на основе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Прямоугольник 33"/>
          <p:cNvSpPr/>
          <p:nvPr/>
        </p:nvSpPr>
        <p:spPr>
          <a:xfrm>
            <a:off x="1258920" y="1957320"/>
            <a:ext cx="67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го послания Президента Российской Федерации  Федеральному собранию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35"/>
          <p:cNvSpPr/>
          <p:nvPr/>
        </p:nvSpPr>
        <p:spPr>
          <a:xfrm>
            <a:off x="800280" y="3265560"/>
            <a:ext cx="735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 социально-экономического развития Александровского района Ставропольского кра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36"/>
          <p:cNvSpPr/>
          <p:nvPr/>
        </p:nvSpPr>
        <p:spPr>
          <a:xfrm>
            <a:off x="1187280" y="4616280"/>
            <a:ext cx="707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х направлений бюджетной и налоговой политики Александровского муниципального района на очередной финансовый годи плановый период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AA20-1A50-4DAE-BBAB-8EE3BA43D8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Рисунок 29" descr="5540738.jpg"/>
          <p:cNvPicPr/>
          <p:nvPr/>
        </p:nvPicPr>
        <p:blipFill>
          <a:blip r:embed="rId2">
            <a:lum bright="70000" contrast="-70000"/>
          </a:blip>
          <a:srcRect l="0" t="43" r="0" b="12403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grpSp>
        <p:nvGrpSpPr>
          <p:cNvPr id="354" name="AutoShape 3"/>
          <p:cNvGrpSpPr/>
          <p:nvPr/>
        </p:nvGrpSpPr>
        <p:grpSpPr>
          <a:xfrm>
            <a:off x="195120" y="3481560"/>
            <a:ext cx="2651400" cy="1742760"/>
            <a:chOff x="195120" y="3481560"/>
            <a:chExt cx="2651400" cy="1742760"/>
          </a:xfrm>
        </p:grpSpPr>
        <p:pic>
          <p:nvPicPr>
            <p:cNvPr id="355" name="AutoShape 3" descr=""/>
            <p:cNvPicPr/>
            <p:nvPr/>
          </p:nvPicPr>
          <p:blipFill>
            <a:blip r:embed="rId3"/>
            <a:stretch/>
          </p:blipFill>
          <p:spPr>
            <a:xfrm>
              <a:off x="195120" y="3481560"/>
              <a:ext cx="26514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277920" y="3565440"/>
              <a:ext cx="24922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4"/>
          <p:cNvSpPr/>
          <p:nvPr/>
        </p:nvSpPr>
        <p:spPr>
          <a:xfrm>
            <a:off x="3584520" y="2714760"/>
            <a:ext cx="190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оритеты бюджетной политик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285840" y="3643200"/>
            <a:ext cx="2408040" cy="14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285840" y="3643200"/>
            <a:ext cx="2357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Обеспечение выполнения обязательств и задач, поставленных указами Президент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Российской Федерации от 7 мая 2012 год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AutoShape 8"/>
          <p:cNvGrpSpPr/>
          <p:nvPr/>
        </p:nvGrpSpPr>
        <p:grpSpPr>
          <a:xfrm>
            <a:off x="615960" y="1200240"/>
            <a:ext cx="2571840" cy="1939680"/>
            <a:chOff x="615960" y="1200240"/>
            <a:chExt cx="2571840" cy="1939680"/>
          </a:xfrm>
        </p:grpSpPr>
        <p:pic>
          <p:nvPicPr>
            <p:cNvPr id="361" name="AutoShape 8" descr=""/>
            <p:cNvPicPr/>
            <p:nvPr/>
          </p:nvPicPr>
          <p:blipFill>
            <a:blip r:embed="rId4"/>
            <a:stretch/>
          </p:blipFill>
          <p:spPr>
            <a:xfrm>
              <a:off x="615960" y="1200240"/>
              <a:ext cx="2571840" cy="19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703440" y="1290600"/>
              <a:ext cx="240012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AutoShape 9"/>
          <p:cNvSpPr/>
          <p:nvPr/>
        </p:nvSpPr>
        <p:spPr>
          <a:xfrm>
            <a:off x="755640" y="1341360"/>
            <a:ext cx="2303640" cy="158292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755640" y="1341360"/>
            <a:ext cx="2316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еспечение обязательств в сфере образования, культуры и спорта с учетом определения объема муниципальных услуг в данных сферах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AutoShape 12"/>
          <p:cNvGrpSpPr/>
          <p:nvPr/>
        </p:nvGrpSpPr>
        <p:grpSpPr>
          <a:xfrm>
            <a:off x="6046920" y="3870360"/>
            <a:ext cx="2573280" cy="1628640"/>
            <a:chOff x="6046920" y="3870360"/>
            <a:chExt cx="2573280" cy="1628640"/>
          </a:xfrm>
        </p:grpSpPr>
        <p:pic>
          <p:nvPicPr>
            <p:cNvPr id="366" name="AutoShape 12" descr=""/>
            <p:cNvPicPr/>
            <p:nvPr/>
          </p:nvPicPr>
          <p:blipFill>
            <a:blip r:embed="rId5"/>
            <a:stretch/>
          </p:blipFill>
          <p:spPr>
            <a:xfrm>
              <a:off x="6046920" y="3870360"/>
              <a:ext cx="25732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126120" y="3944880"/>
              <a:ext cx="2425680" cy="14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3"/>
          <p:cNvSpPr/>
          <p:nvPr/>
        </p:nvSpPr>
        <p:spPr>
          <a:xfrm>
            <a:off x="6156360" y="4000680"/>
            <a:ext cx="2303280" cy="12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6227640" y="4143240"/>
            <a:ext cx="225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беспечение прозрачности и открытости муниципальных финанс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AutoShape 16"/>
          <p:cNvGrpSpPr/>
          <p:nvPr/>
        </p:nvGrpSpPr>
        <p:grpSpPr>
          <a:xfrm>
            <a:off x="5778360" y="1109520"/>
            <a:ext cx="2573640" cy="1627200"/>
            <a:chOff x="5778360" y="1109520"/>
            <a:chExt cx="2573640" cy="1627200"/>
          </a:xfrm>
        </p:grpSpPr>
        <p:pic>
          <p:nvPicPr>
            <p:cNvPr id="371" name="AutoShape 16" descr=""/>
            <p:cNvPicPr/>
            <p:nvPr/>
          </p:nvPicPr>
          <p:blipFill>
            <a:blip r:embed="rId6"/>
            <a:stretch/>
          </p:blipFill>
          <p:spPr>
            <a:xfrm>
              <a:off x="5778360" y="1109520"/>
              <a:ext cx="257364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856120" y="1184400"/>
              <a:ext cx="242424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17"/>
          <p:cNvSpPr/>
          <p:nvPr/>
        </p:nvSpPr>
        <p:spPr>
          <a:xfrm>
            <a:off x="5940360" y="1341360"/>
            <a:ext cx="2232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5867280" y="1484280"/>
            <a:ext cx="231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8a94"/>
                </a:solidFill>
                <a:latin typeface="Times New Roman"/>
                <a:ea typeface="Times New Roman"/>
              </a:rPr>
              <a:t>Повышение эффективности бюджетных расход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376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6699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3b2c1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00306"/>
                </a:gs>
                <a:gs pos="100000">
                  <a:srgbClr val="003366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AutoShape 12"/>
          <p:cNvGrpSpPr/>
          <p:nvPr/>
        </p:nvGrpSpPr>
        <p:grpSpPr>
          <a:xfrm>
            <a:off x="2840040" y="5241960"/>
            <a:ext cx="2573280" cy="1628640"/>
            <a:chOff x="2840040" y="5241960"/>
            <a:chExt cx="2573280" cy="1628640"/>
          </a:xfrm>
        </p:grpSpPr>
        <p:pic>
          <p:nvPicPr>
            <p:cNvPr id="381" name="AutoShape 12" descr=""/>
            <p:cNvPicPr/>
            <p:nvPr/>
          </p:nvPicPr>
          <p:blipFill>
            <a:blip r:embed="rId7"/>
            <a:stretch/>
          </p:blipFill>
          <p:spPr>
            <a:xfrm>
              <a:off x="2840040" y="5241960"/>
              <a:ext cx="25732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916360" y="5316480"/>
              <a:ext cx="2425680" cy="14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AutoShape 13"/>
          <p:cNvSpPr/>
          <p:nvPr/>
        </p:nvSpPr>
        <p:spPr>
          <a:xfrm>
            <a:off x="2916360" y="5386320"/>
            <a:ext cx="2408040" cy="13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2916360" y="54450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еспечение сбалансированности и финансовой устойчивости районного бюдж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Основные приоритеты бюджетной политик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B9B1-7394-4307-8425-C85FD41AC6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6" descr="16396227_f.jp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37984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29"/>
          <p:cNvSpPr/>
          <p:nvPr/>
        </p:nvSpPr>
        <p:spPr>
          <a:xfrm>
            <a:off x="324000" y="1125360"/>
            <a:ext cx="8439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оекта бюджета осуществляется по кодам бюджетной классификац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юджетная классификация Российской Федера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ировка доходов, расходов и источников финансирования дефицитов бюджетов бюджетной системы Российской Федерации, используемая для составления и исполнения бюджетов, составления бюджетной отчетности, обеспечивающей сопоставимость показателей бюджетов бюджетной системы Российской Федер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34920" y="11592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юджетная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лассифик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51" descr="16396227_f.jp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3798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02"/>
          <p:cNvSpPr/>
          <p:nvPr/>
        </p:nvSpPr>
        <p:spPr>
          <a:xfrm>
            <a:off x="50004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3"/>
          <p:cNvSpPr/>
          <p:nvPr/>
        </p:nvSpPr>
        <p:spPr>
          <a:xfrm>
            <a:off x="1429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4"/>
          <p:cNvSpPr/>
          <p:nvPr/>
        </p:nvSpPr>
        <p:spPr>
          <a:xfrm>
            <a:off x="12142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5"/>
          <p:cNvSpPr/>
          <p:nvPr/>
        </p:nvSpPr>
        <p:spPr>
          <a:xfrm>
            <a:off x="85716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6"/>
          <p:cNvSpPr/>
          <p:nvPr/>
        </p:nvSpPr>
        <p:spPr>
          <a:xfrm>
            <a:off x="19288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7"/>
          <p:cNvSpPr/>
          <p:nvPr/>
        </p:nvSpPr>
        <p:spPr>
          <a:xfrm>
            <a:off x="157176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8"/>
          <p:cNvSpPr/>
          <p:nvPr/>
        </p:nvSpPr>
        <p:spPr>
          <a:xfrm>
            <a:off x="257184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9"/>
          <p:cNvSpPr/>
          <p:nvPr/>
        </p:nvSpPr>
        <p:spPr>
          <a:xfrm>
            <a:off x="22147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0"/>
          <p:cNvSpPr/>
          <p:nvPr/>
        </p:nvSpPr>
        <p:spPr>
          <a:xfrm>
            <a:off x="4572000" y="38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1"/>
          <p:cNvSpPr/>
          <p:nvPr/>
        </p:nvSpPr>
        <p:spPr>
          <a:xfrm>
            <a:off x="2928960" y="3429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2"/>
          <p:cNvSpPr/>
          <p:nvPr/>
        </p:nvSpPr>
        <p:spPr>
          <a:xfrm>
            <a:off x="42148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3"/>
          <p:cNvSpPr/>
          <p:nvPr/>
        </p:nvSpPr>
        <p:spPr>
          <a:xfrm>
            <a:off x="371484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4"/>
          <p:cNvSpPr/>
          <p:nvPr/>
        </p:nvSpPr>
        <p:spPr>
          <a:xfrm>
            <a:off x="521496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5"/>
          <p:cNvSpPr/>
          <p:nvPr/>
        </p:nvSpPr>
        <p:spPr>
          <a:xfrm>
            <a:off x="471492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47"/>
          <p:cNvSpPr/>
          <p:nvPr/>
        </p:nvSpPr>
        <p:spPr>
          <a:xfrm>
            <a:off x="57150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48"/>
          <p:cNvSpPr/>
          <p:nvPr/>
        </p:nvSpPr>
        <p:spPr>
          <a:xfrm>
            <a:off x="621504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49"/>
          <p:cNvSpPr/>
          <p:nvPr/>
        </p:nvSpPr>
        <p:spPr>
          <a:xfrm>
            <a:off x="821520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50"/>
          <p:cNvSpPr/>
          <p:nvPr/>
        </p:nvSpPr>
        <p:spPr>
          <a:xfrm>
            <a:off x="771516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51"/>
          <p:cNvSpPr/>
          <p:nvPr/>
        </p:nvSpPr>
        <p:spPr>
          <a:xfrm>
            <a:off x="721512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52"/>
          <p:cNvSpPr/>
          <p:nvPr/>
        </p:nvSpPr>
        <p:spPr>
          <a:xfrm>
            <a:off x="6643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61"/>
          <p:cNvSpPr/>
          <p:nvPr/>
        </p:nvSpPr>
        <p:spPr>
          <a:xfrm>
            <a:off x="142920" y="1857240"/>
            <a:ext cx="128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о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2"/>
          <p:cNvSpPr/>
          <p:nvPr/>
        </p:nvSpPr>
        <p:spPr>
          <a:xfrm>
            <a:off x="1000080" y="100008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3"/>
          <p:cNvSpPr/>
          <p:nvPr/>
        </p:nvSpPr>
        <p:spPr>
          <a:xfrm>
            <a:off x="1357200" y="1857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, подгрупп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5"/>
          <p:cNvSpPr/>
          <p:nvPr/>
        </p:nvSpPr>
        <p:spPr>
          <a:xfrm>
            <a:off x="3000240" y="18572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, подстатья, элем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6"/>
          <p:cNvSpPr/>
          <p:nvPr/>
        </p:nvSpPr>
        <p:spPr>
          <a:xfrm>
            <a:off x="5572080" y="1857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д доход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67"/>
          <p:cNvSpPr/>
          <p:nvPr/>
        </p:nvSpPr>
        <p:spPr>
          <a:xfrm>
            <a:off x="7358040" y="1928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ГУ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1"/>
          <p:cNvSpPr/>
          <p:nvPr/>
        </p:nvSpPr>
        <p:spPr>
          <a:xfrm>
            <a:off x="0" y="14292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ный 20-значный код классифик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44"/>
          <p:cNvSpPr/>
          <p:nvPr/>
        </p:nvSpPr>
        <p:spPr>
          <a:xfrm>
            <a:off x="336096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45"/>
          <p:cNvSpPr/>
          <p:nvPr/>
        </p:nvSpPr>
        <p:spPr>
          <a:xfrm rot="5400000">
            <a:off x="445680" y="2554200"/>
            <a:ext cx="608040" cy="10717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5840 h 1071720"/>
              <a:gd name="textAreaBottom" fmla="*/ 105588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1"/>
                  <a:pt x="10800" y="1021"/>
                </a:cubicBezTo>
                <a:lnTo>
                  <a:pt x="10800" y="9070"/>
                </a:lnTo>
                <a:cubicBezTo>
                  <a:pt x="10800" y="9581"/>
                  <a:pt x="5400" y="10091"/>
                  <a:pt x="0" y="10091"/>
                </a:cubicBezTo>
                <a:cubicBezTo>
                  <a:pt x="5400" y="10091"/>
                  <a:pt x="10800" y="10602"/>
                  <a:pt x="10800" y="11112"/>
                </a:cubicBezTo>
                <a:lnTo>
                  <a:pt x="10800" y="20579"/>
                </a:lnTo>
                <a:cubicBezTo>
                  <a:pt x="10800" y="2109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46"/>
          <p:cNvSpPr/>
          <p:nvPr/>
        </p:nvSpPr>
        <p:spPr>
          <a:xfrm rot="5400000">
            <a:off x="1500120" y="2643120"/>
            <a:ext cx="642960" cy="928800"/>
          </a:xfrm>
          <a:custGeom>
            <a:avLst/>
            <a:gdLst>
              <a:gd name="textAreaLeft" fmla="*/ 410760 w 642960"/>
              <a:gd name="textAreaRight" fmla="*/ 642960 w 642960"/>
              <a:gd name="textAreaTop" fmla="*/ 19800 h 928800"/>
              <a:gd name="textAreaBottom" fmla="*/ 9090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8"/>
                  <a:pt x="10800" y="1476"/>
                </a:cubicBezTo>
                <a:lnTo>
                  <a:pt x="10800" y="8615"/>
                </a:lnTo>
                <a:cubicBezTo>
                  <a:pt x="10800" y="9353"/>
                  <a:pt x="5400" y="10091"/>
                  <a:pt x="0" y="10091"/>
                </a:cubicBezTo>
                <a:cubicBezTo>
                  <a:pt x="5400" y="10091"/>
                  <a:pt x="10800" y="10829"/>
                  <a:pt x="10800" y="11567"/>
                </a:cubicBezTo>
                <a:lnTo>
                  <a:pt x="10800" y="20124"/>
                </a:lnTo>
                <a:cubicBezTo>
                  <a:pt x="10800" y="2086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48"/>
          <p:cNvSpPr/>
          <p:nvPr/>
        </p:nvSpPr>
        <p:spPr>
          <a:xfrm rot="5400000">
            <a:off x="3500280" y="1642680"/>
            <a:ext cx="642960" cy="2928960"/>
          </a:xfrm>
          <a:custGeom>
            <a:avLst/>
            <a:gdLst>
              <a:gd name="textAreaLeft" fmla="*/ 410760 w 642960"/>
              <a:gd name="textAreaRight" fmla="*/ 642960 w 642960"/>
              <a:gd name="textAreaTop" fmla="*/ 19800 h 2928960"/>
              <a:gd name="textAreaBottom" fmla="*/ 290916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4"/>
                  <a:pt x="10800" y="468"/>
                </a:cubicBezTo>
                <a:lnTo>
                  <a:pt x="10800" y="9623"/>
                </a:lnTo>
                <a:cubicBezTo>
                  <a:pt x="10800" y="9857"/>
                  <a:pt x="5400" y="10091"/>
                  <a:pt x="0" y="10091"/>
                </a:cubicBezTo>
                <a:cubicBezTo>
                  <a:pt x="5400" y="10091"/>
                  <a:pt x="10800" y="10325"/>
                  <a:pt x="10800" y="10559"/>
                </a:cubicBezTo>
                <a:lnTo>
                  <a:pt x="10800" y="21132"/>
                </a:lnTo>
                <a:cubicBezTo>
                  <a:pt x="10800" y="2136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49"/>
          <p:cNvSpPr/>
          <p:nvPr/>
        </p:nvSpPr>
        <p:spPr>
          <a:xfrm rot="5400000">
            <a:off x="5946480" y="2197080"/>
            <a:ext cx="608040" cy="178596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1785960"/>
              <a:gd name="textAreaBottom" fmla="*/ 176724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6"/>
                </a:cubicBezTo>
                <a:lnTo>
                  <a:pt x="10800" y="9365"/>
                </a:lnTo>
                <a:cubicBezTo>
                  <a:pt x="10800" y="9728"/>
                  <a:pt x="5400" y="10091"/>
                  <a:pt x="0" y="10091"/>
                </a:cubicBezTo>
                <a:cubicBezTo>
                  <a:pt x="5400" y="10091"/>
                  <a:pt x="10800" y="10454"/>
                  <a:pt x="10800" y="10817"/>
                </a:cubicBezTo>
                <a:lnTo>
                  <a:pt x="10800" y="20874"/>
                </a:lnTo>
                <a:cubicBezTo>
                  <a:pt x="10800" y="212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Левая фигурная скобка 50"/>
          <p:cNvSpPr/>
          <p:nvPr/>
        </p:nvSpPr>
        <p:spPr>
          <a:xfrm rot="5400000">
            <a:off x="7625520" y="2446920"/>
            <a:ext cx="608040" cy="12859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1285920"/>
              <a:gd name="textAreaBottom" fmla="*/ 12672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4"/>
                  <a:pt x="10800" y="1008"/>
                </a:cubicBezTo>
                <a:lnTo>
                  <a:pt x="10800" y="9083"/>
                </a:lnTo>
                <a:cubicBezTo>
                  <a:pt x="10800" y="9587"/>
                  <a:pt x="5400" y="10091"/>
                  <a:pt x="0" y="10091"/>
                </a:cubicBezTo>
                <a:cubicBezTo>
                  <a:pt x="5400" y="10091"/>
                  <a:pt x="10800" y="10595"/>
                  <a:pt x="10800" y="11099"/>
                </a:cubicBezTo>
                <a:lnTo>
                  <a:pt x="10800" y="20592"/>
                </a:lnTo>
                <a:cubicBezTo>
                  <a:pt x="10800" y="210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Левая фигурная скобка 53"/>
          <p:cNvSpPr/>
          <p:nvPr/>
        </p:nvSpPr>
        <p:spPr>
          <a:xfrm rot="16200000">
            <a:off x="446040" y="3625560"/>
            <a:ext cx="608040" cy="10717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5840 h 1071720"/>
              <a:gd name="textAreaBottom" fmla="*/ 105588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1"/>
                  <a:pt x="10800" y="1021"/>
                </a:cubicBezTo>
                <a:lnTo>
                  <a:pt x="10800" y="9244"/>
                </a:lnTo>
                <a:cubicBezTo>
                  <a:pt x="10800" y="9755"/>
                  <a:pt x="5400" y="10265"/>
                  <a:pt x="0" y="10265"/>
                </a:cubicBezTo>
                <a:cubicBezTo>
                  <a:pt x="5400" y="10265"/>
                  <a:pt x="10800" y="10776"/>
                  <a:pt x="10800" y="11286"/>
                </a:cubicBezTo>
                <a:lnTo>
                  <a:pt x="10800" y="20579"/>
                </a:lnTo>
                <a:cubicBezTo>
                  <a:pt x="10800" y="2109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Левая фигурная скобка 52"/>
          <p:cNvSpPr/>
          <p:nvPr/>
        </p:nvSpPr>
        <p:spPr>
          <a:xfrm rot="16200000">
            <a:off x="1338840" y="3875400"/>
            <a:ext cx="608040" cy="571680"/>
          </a:xfrm>
          <a:custGeom>
            <a:avLst/>
            <a:gdLst>
              <a:gd name="textAreaLeft" fmla="*/ 388440 w 608040"/>
              <a:gd name="textAreaRight" fmla="*/ 608400 w 608040"/>
              <a:gd name="textAreaTop" fmla="*/ 17640 h 571680"/>
              <a:gd name="textAreaBottom" fmla="*/ 55404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6"/>
                  <a:pt x="10800" y="2132"/>
                </a:cubicBezTo>
                <a:lnTo>
                  <a:pt x="10800" y="7959"/>
                </a:lnTo>
                <a:cubicBezTo>
                  <a:pt x="10800" y="9025"/>
                  <a:pt x="5400" y="10091"/>
                  <a:pt x="0" y="10091"/>
                </a:cubicBezTo>
                <a:cubicBezTo>
                  <a:pt x="5400" y="10091"/>
                  <a:pt x="10800" y="11157"/>
                  <a:pt x="10800" y="12223"/>
                </a:cubicBezTo>
                <a:lnTo>
                  <a:pt x="10800" y="19468"/>
                </a:lnTo>
                <a:cubicBezTo>
                  <a:pt x="10800" y="2053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54"/>
          <p:cNvSpPr/>
          <p:nvPr/>
        </p:nvSpPr>
        <p:spPr>
          <a:xfrm rot="16200000">
            <a:off x="2017440" y="3839760"/>
            <a:ext cx="608040" cy="64296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642960"/>
              <a:gd name="textAreaBottom" fmla="*/ 6242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8"/>
                  <a:pt x="10800" y="2016"/>
                </a:cubicBezTo>
                <a:lnTo>
                  <a:pt x="10800" y="8075"/>
                </a:lnTo>
                <a:cubicBezTo>
                  <a:pt x="10800" y="9083"/>
                  <a:pt x="5400" y="10091"/>
                  <a:pt x="0" y="10091"/>
                </a:cubicBezTo>
                <a:cubicBezTo>
                  <a:pt x="5400" y="10091"/>
                  <a:pt x="10800" y="11099"/>
                  <a:pt x="10800" y="12107"/>
                </a:cubicBezTo>
                <a:lnTo>
                  <a:pt x="10800" y="19584"/>
                </a:lnTo>
                <a:cubicBezTo>
                  <a:pt x="10800" y="2059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5"/>
          <p:cNvSpPr/>
          <p:nvPr/>
        </p:nvSpPr>
        <p:spPr>
          <a:xfrm rot="16200000">
            <a:off x="3946320" y="2625480"/>
            <a:ext cx="608040" cy="30715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3071520"/>
              <a:gd name="textAreaBottom" fmla="*/ 3052800 h 307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9669"/>
                </a:lnTo>
                <a:cubicBezTo>
                  <a:pt x="10800" y="9880"/>
                  <a:pt x="5400" y="10091"/>
                  <a:pt x="0" y="10091"/>
                </a:cubicBezTo>
                <a:cubicBezTo>
                  <a:pt x="5400" y="10091"/>
                  <a:pt x="10800" y="10302"/>
                  <a:pt x="10800" y="10513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56"/>
          <p:cNvSpPr/>
          <p:nvPr/>
        </p:nvSpPr>
        <p:spPr>
          <a:xfrm rot="16200000">
            <a:off x="6196680" y="3518280"/>
            <a:ext cx="608040" cy="12859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1285920"/>
              <a:gd name="textAreaBottom" fmla="*/ 12672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4"/>
                  <a:pt x="10800" y="1008"/>
                </a:cubicBezTo>
                <a:lnTo>
                  <a:pt x="10800" y="9083"/>
                </a:lnTo>
                <a:cubicBezTo>
                  <a:pt x="10800" y="9587"/>
                  <a:pt x="5400" y="10091"/>
                  <a:pt x="0" y="10091"/>
                </a:cubicBezTo>
                <a:cubicBezTo>
                  <a:pt x="5400" y="10091"/>
                  <a:pt x="10800" y="10595"/>
                  <a:pt x="10800" y="11099"/>
                </a:cubicBezTo>
                <a:lnTo>
                  <a:pt x="10800" y="20592"/>
                </a:lnTo>
                <a:cubicBezTo>
                  <a:pt x="10800" y="210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57"/>
          <p:cNvSpPr/>
          <p:nvPr/>
        </p:nvSpPr>
        <p:spPr>
          <a:xfrm rot="16200000">
            <a:off x="7625520" y="3518280"/>
            <a:ext cx="608040" cy="12859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1285920"/>
              <a:gd name="textAreaBottom" fmla="*/ 12672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4"/>
                  <a:pt x="10800" y="1008"/>
                </a:cubicBezTo>
                <a:lnTo>
                  <a:pt x="10800" y="9083"/>
                </a:lnTo>
                <a:cubicBezTo>
                  <a:pt x="10800" y="9587"/>
                  <a:pt x="5400" y="10091"/>
                  <a:pt x="0" y="10091"/>
                </a:cubicBezTo>
                <a:cubicBezTo>
                  <a:pt x="5400" y="10091"/>
                  <a:pt x="10800" y="10595"/>
                  <a:pt x="10800" y="11099"/>
                </a:cubicBezTo>
                <a:lnTo>
                  <a:pt x="10800" y="20592"/>
                </a:lnTo>
                <a:cubicBezTo>
                  <a:pt x="10800" y="210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1"/>
          <p:cNvSpPr/>
          <p:nvPr/>
        </p:nvSpPr>
        <p:spPr>
          <a:xfrm>
            <a:off x="250920" y="4508640"/>
            <a:ext cx="136836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оряди-тель бюджетных средств (ГРБС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63"/>
          <p:cNvSpPr/>
          <p:nvPr/>
        </p:nvSpPr>
        <p:spPr>
          <a:xfrm>
            <a:off x="1357200" y="4714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, подразде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65"/>
          <p:cNvSpPr/>
          <p:nvPr/>
        </p:nvSpPr>
        <p:spPr>
          <a:xfrm>
            <a:off x="2857680" y="47149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ая стать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67"/>
          <p:cNvSpPr/>
          <p:nvPr/>
        </p:nvSpPr>
        <p:spPr>
          <a:xfrm>
            <a:off x="7429680" y="4714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Г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5"/>
          <p:cNvSpPr/>
          <p:nvPr/>
        </p:nvSpPr>
        <p:spPr>
          <a:xfrm>
            <a:off x="5429160" y="471492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62"/>
          <p:cNvSpPr/>
          <p:nvPr/>
        </p:nvSpPr>
        <p:spPr>
          <a:xfrm>
            <a:off x="1295280" y="5510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бюдже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62"/>
          <p:cNvSpPr/>
          <p:nvPr/>
        </p:nvSpPr>
        <p:spPr>
          <a:xfrm>
            <a:off x="0" y="600084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*КОСГУ – классификатор операций сектора государственного управле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59FD-2A4A-485E-94D9-6285366883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Rectangle 2"/>
          <p:cNvGrpSpPr/>
          <p:nvPr/>
        </p:nvGrpSpPr>
        <p:grpSpPr>
          <a:xfrm>
            <a:off x="0" y="692280"/>
            <a:ext cx="9369360" cy="2036520"/>
            <a:chOff x="0" y="692280"/>
            <a:chExt cx="9369360" cy="2036520"/>
          </a:xfrm>
        </p:grpSpPr>
        <p:pic>
          <p:nvPicPr>
            <p:cNvPr id="439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692280"/>
              <a:ext cx="9369360" cy="20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480" y="698400"/>
              <a:ext cx="9358200" cy="20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633f32"/>
                  </a:solidFill>
                  <a:uFillTx/>
                  <a:latin typeface="Cambria"/>
                </a:rPr>
                <a:t>Проект решения о бюджете</a:t>
              </a:r>
              <a:r>
                <a:rPr b="1" i="1" lang="ru-RU" sz="2500" spc="-1" strike="noStrike" u="sng">
                  <a:solidFill>
                    <a:srgbClr val="633f32"/>
                  </a:solidFill>
                  <a:uFillTx/>
                  <a:latin typeface="Arial"/>
                </a:rPr>
                <a:t> проходит</a:t>
              </a:r>
              <a:r>
                <a:rPr b="1" i="1" lang="ru-RU" sz="2500" spc="-1" strike="noStrike" u="sng">
                  <a:solidFill>
                    <a:srgbClr val="633f32"/>
                  </a:solidFill>
                  <a:uFillTx/>
                  <a:latin typeface="Cambria"/>
                </a:rPr>
                <a:t>: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Arial"/>
                </a:rPr>
                <a:t>проверку контрольно – счетной палатой</a:t>
              </a:r>
              <a:r>
                <a:rPr b="1" lang="ru-RU" sz="2000" spc="-1" strike="noStrike">
                  <a:solidFill>
                    <a:srgbClr val="7030a0"/>
                  </a:solidFill>
                  <a:latin typeface="Cambri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Cambria"/>
                </a:rPr>
                <a:t>обсуждени</a:t>
              </a:r>
              <a:r>
                <a:rPr b="1" lang="ru-RU" sz="2000" spc="-1" strike="noStrike">
                  <a:solidFill>
                    <a:srgbClr val="7030a0"/>
                  </a:solidFill>
                  <a:latin typeface="Arial"/>
                </a:rPr>
                <a:t>е</a:t>
              </a:r>
              <a:r>
                <a:rPr b="1" lang="ru-RU" sz="2000" spc="-1" strike="noStrike">
                  <a:solidFill>
                    <a:srgbClr val="7030a0"/>
                  </a:solidFill>
                  <a:latin typeface="Cambria"/>
                </a:rPr>
                <a:t> на публичных слушаниях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Arial"/>
                </a:rPr>
                <a:t>процедуру </a:t>
              </a:r>
              <a:r>
                <a:rPr b="1" lang="ru-RU" sz="2000" spc="-1" strike="noStrike">
                  <a:solidFill>
                    <a:srgbClr val="7030a0"/>
                  </a:solidFill>
                  <a:latin typeface="Cambria"/>
                </a:rPr>
                <a:t>рассмотрен</a:t>
              </a:r>
              <a:r>
                <a:rPr b="1" lang="ru-RU" sz="2000" spc="-1" strike="noStrike">
                  <a:solidFill>
                    <a:srgbClr val="7030a0"/>
                  </a:solidFill>
                  <a:latin typeface="Arial"/>
                </a:rPr>
                <a:t>ия</a:t>
              </a:r>
              <a:r>
                <a:rPr b="1" lang="ru-RU" sz="2000" spc="-1" strike="noStrike">
                  <a:solidFill>
                    <a:srgbClr val="7030a0"/>
                  </a:solidFill>
                  <a:latin typeface="Cambria"/>
                </a:rPr>
                <a:t> на Совете Александровского муниципального район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" name="Picture 12" descr="Безимени-3"/>
          <p:cNvPicPr/>
          <p:nvPr/>
        </p:nvPicPr>
        <p:blipFill>
          <a:blip r:embed="rId3"/>
          <a:stretch/>
        </p:blipFill>
        <p:spPr>
          <a:xfrm>
            <a:off x="1835280" y="2674800"/>
            <a:ext cx="5398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3C3A-868B-4240-AA81-5DF773D0ED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4"/>
          <p:cNvSpPr/>
          <p:nvPr/>
        </p:nvSpPr>
        <p:spPr>
          <a:xfrm>
            <a:off x="539640" y="404640"/>
            <a:ext cx="8305920" cy="1008360"/>
          </a:xfrm>
          <a:prstGeom prst="roundRect">
            <a:avLst>
              <a:gd name="adj" fmla="val 16667"/>
            </a:avLst>
          </a:prstGeom>
          <a:solidFill>
            <a:srgbClr val="ffff66">
              <a:alpha val="50000"/>
            </a:srgbClr>
          </a:solidFill>
          <a:ln w="648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3d5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r>
              <a:rPr b="1" lang="ru-RU" sz="2400" spc="-1" strike="noStrike">
                <a:solidFill>
                  <a:srgbClr val="373d5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ступления денежных средств в бюджет о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4"/>
          <p:cNvSpPr/>
          <p:nvPr/>
        </p:nvSpPr>
        <p:spPr>
          <a:xfrm>
            <a:off x="2843280" y="1916280"/>
            <a:ext cx="6072120" cy="41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090"/>
              </a:gs>
              <a:gs pos="100000">
                <a:srgbClr val="ffe0e0"/>
              </a:gs>
            </a:gsLst>
            <a:lin ang="16200000"/>
          </a:gradFill>
          <a:ln w="9360">
            <a:solidFill>
              <a:srgbClr val="cc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логовых доходов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алог на доход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ческих лиц, единый налог на вмененный доход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диный сельхозналог, госпошлина и др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налоговых доходов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аренда имуществ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ренда земли, штрафы, доходы от платных услуг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зенных учреждений и др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возмездных поступл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ов других уровней в вид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бюджетных трансфертов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аций, субсидий, субвенций 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х межбюджетных трансфертов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" descr="Кошелек In"/>
          <p:cNvPicPr/>
          <p:nvPr/>
        </p:nvPicPr>
        <p:blipFill>
          <a:blip r:embed="rId2"/>
          <a:stretch/>
        </p:blipFill>
        <p:spPr>
          <a:xfrm>
            <a:off x="0" y="1844640"/>
            <a:ext cx="27525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8:06:32Z</dcterms:created>
  <dc:creator>natmat</dc:creator>
  <dc:description/>
  <dc:language>en-US</dc:language>
  <cp:lastModifiedBy>ФУ</cp:lastModifiedBy>
  <dcterms:modified xsi:type="dcterms:W3CDTF">2014-12-31T04:30:38Z</dcterms:modified>
  <cp:revision>744</cp:revision>
  <dc:subject/>
  <dc:title>ThemeGallery PowerTemplate</dc:title>
</cp:coreProperties>
</file>