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55A-FA22-4FB2-AA84-7551AAAA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C10-C6FD-4EEE-A2B3-D1DE5A1C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DBC-F3FA-412D-8DE3-14C76858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4DA-2547-4031-A33F-10B2FBFF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37E8-88F2-4B34-92A4-1CCFA399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701A-66EB-4729-9400-57C7E763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67D7-EEC6-42A5-A57F-9A31D8C5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E0B6-4936-485B-8A7C-F9CB80CB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FE78-5586-4BE8-BC31-C31EF6ED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5637-A298-4DA0-841A-EDEAB990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7539-8550-4680-8DE4-1479E5A8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6AE-BED7-41BC-85DA-5681DC51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9CC8-BDD4-468C-B9EA-C18454DD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FFE4-9EDF-42B9-A655-3C918741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5ADB-E13A-4FE1-8340-C76CB094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92DC-355E-4A2D-A9D7-8D318760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1A5D-4830-4D3C-AEED-A5B3D5AA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D27A2-691F-49C3-BA25-0F3814F8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2C50A-3FDC-4295-9BE0-E4803AA4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1E769-D215-47FA-BF99-7F048A6A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93C02-1F47-496D-BBC7-3CCB23E0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0E3E4-235E-4BC8-9DF7-A5D646BB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D6D-BAE1-47B3-85CF-2ACA14A1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B09FC-D91E-4AAA-996C-9AC9AB61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E2C0C-BF79-483C-9490-55215DD0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3DD28-7F79-492F-A364-3B0010FF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91A30-0254-4A38-9526-4F64BD05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ABFF2-20AC-48C1-AAF7-31F84D86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EA368-C2A2-4DD7-B234-EE827CFD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C11AF-EEEA-43D2-B040-E80DBF90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EBB5-5D39-4A95-899E-82C9C8FD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4D685-3112-4D7A-984D-70C8B201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BBBBA-BD23-466F-9C23-D34BF907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381-E8EE-46F5-8742-0C230A04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6800A-BDAE-4503-8AAF-2357F836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6EAB8-606E-4310-914E-A552763A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74C66-8CEE-4F1B-8104-18BBCC1F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B08E7-C990-43DD-8F12-AAC820E3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B9B82-D899-490E-A687-125F9C5D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A7693-3C89-4269-83AF-C4AD9CB8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35DD2-6934-44EE-B416-75762E17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F1E56-CF74-4EF3-A9D4-DBC1901E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AE317-48F4-4E65-BA82-A3CB39CA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F0138-EB11-46D0-8AF3-4913B1EF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45F1-16E4-4E4D-A409-4FB25E4D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532CE-8873-4635-AD8B-2FE2FBCE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5944D-40CC-4CBA-9605-A86F3502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EED03-BA73-4B27-BB0B-EEBE2EB3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A53FA-29E0-4EAA-A693-8C23D6B5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2D235-845F-4AB7-A964-A1702061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B26C3-141A-4718-A8B0-BAC85925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16A5D-757D-4B69-AFDC-A606F941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72A1A-54DF-4E17-BD83-06063E54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47B4E-9D3A-4C26-BA56-85EA68E1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72537-D8D0-40E2-A7F3-C9BACC90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24F-5D93-4405-A7F7-75C6572D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EBF5D-BBB6-47DF-A290-A8DC98FC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996FE-8EA4-4991-86D7-F9EEFCDD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2B04C-FAAE-4DAF-8829-8E91BF6A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62AFA-E154-453D-B3D4-1F263F73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B5F71-2BE6-408D-BB4D-8E7D265C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984F0-3C9D-4408-8C40-46E4433C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2E393-2204-44F5-A0CD-91E47D6F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43C04-46C9-495B-B77A-2390C28F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9C542-ADE0-4EA8-B752-9B671768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D7BB1-7058-41D6-B52F-97580150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DEC-8852-46A0-B90F-666B18DF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71BA3-AC8C-451A-8696-0E725EC8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E2677-7CD3-4547-9CCC-CD427429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841B2-6469-42B9-8A1B-18B5425E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FC585-B710-425A-9506-6E5471B2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CCD7D-7651-4127-9819-734884AD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B2BDE-31A0-4404-9906-F6BFEB04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068D8-51E3-4C93-8C84-6816B2DE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FFB77-6129-4F08-8D0F-EF966C7C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831D1-285A-4F64-9D87-CF87587F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8B5E5-80A8-401F-B150-E0E0B368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0C0-3D2B-48BE-86DB-CC8F7D73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A4B14-08C2-4676-A185-68EE0DF1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2BF1A-43F8-42CD-8282-0F75D5E6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D70A8-2BDB-4AB1-82EE-5FD4CC45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02C76-323C-4B25-954D-22DA2F31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E2D1A-EAB7-4E59-8AFB-4FC791DA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CDE-665C-4254-9DF6-9979B590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414A-9DC1-4DF2-9A3F-2E3F35696777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0B3E-FEA6-497A-BDF8-95276D4C4B8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335E-19F7-4EB3-B792-456F0293BB0B}" type="datetime">
              <a:rPr b="1" lang="ru-RU" sz="1400" spc="-1" strike="noStrike">
                <a:solidFill>
                  <a:srgbClr val="464653"/>
                </a:solidFill>
                <a:latin typeface="Arial"/>
              </a:rPr>
              <a:t>29.07.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A433-3EB4-454E-A45B-B66BE81EE8B5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26BD-297F-4AA9-BE0B-AD56C3245D0E}" type="datetime">
              <a:rPr b="1" lang="ru-RU" sz="1400" spc="-1" strike="noStrike">
                <a:solidFill>
                  <a:srgbClr val="dde9ec"/>
                </a:solidFill>
                <a:latin typeface="Arial"/>
              </a:rPr>
              <a:t>29.07.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C154-4252-4F9E-8B97-BBF067E3000C}" type="slidenum">
              <a:rPr b="1" lang="en-US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EE7E-F0AC-4EBC-9498-C8DC1EFEB1F7}" type="datetime">
              <a:rPr b="1" lang="ru-RU" sz="1400" spc="-1" strike="noStrike">
                <a:solidFill>
                  <a:srgbClr val="464653"/>
                </a:solidFill>
                <a:latin typeface="Arial"/>
              </a:rPr>
              <a:t>29.07.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FADE-8B2D-449B-B1EE-D9488D0023C8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7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5283-DFD9-451D-BD57-167F8EC1C871}" type="datetime">
              <a:rPr b="1" lang="ru-RU" sz="1400" spc="-1" strike="noStrike">
                <a:solidFill>
                  <a:srgbClr val="464653"/>
                </a:solidFill>
                <a:latin typeface="Arial"/>
              </a:rPr>
              <a:t>29.07.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053E-BC52-4396-9A74-171AB0A47AE8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Равнобедренный треугольник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A711-4446-4BC8-82CD-2AA124D43D35}" type="datetime">
              <a:rPr b="1" lang="ru-RU" sz="1400" spc="-1" strike="noStrike">
                <a:solidFill>
                  <a:srgbClr val="dde9ec"/>
                </a:solidFill>
                <a:latin typeface="Arial"/>
              </a:rPr>
              <a:t>29.07.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58DD-E421-4704-9343-16E3ADB99BD5}" type="slidenum">
              <a:rPr b="1" lang="en-US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Равнобедренный треугольник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2E51-9729-4A91-BD8A-03FE723C60F5}" type="datetime">
              <a:rPr b="1" lang="ru-RU" sz="1400" spc="-1" strike="noStrike">
                <a:solidFill>
                  <a:srgbClr val="464653"/>
                </a:solidFill>
                <a:latin typeface="Arial"/>
              </a:rPr>
              <a:t>29.07.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53FB-F3F4-49D2-8495-D7130599FA30}" type="slidenum">
              <a:rPr b="1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hyperlink" Target="mailto:fumfskal@mail.ru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02C4-AE15-41DB-8A8B-19BCF07F791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gerb"/>
          <p:cNvPicPr/>
          <p:nvPr/>
        </p:nvPicPr>
        <p:blipFill>
          <a:blip r:embed="rId2"/>
          <a:stretch/>
        </p:blipFill>
        <p:spPr>
          <a:xfrm>
            <a:off x="372960" y="66600"/>
            <a:ext cx="1038240" cy="1428840"/>
          </a:xfrm>
          <a:prstGeom prst="rect">
            <a:avLst/>
          </a:prstGeom>
          <a:ln w="0">
            <a:noFill/>
          </a:ln>
        </p:spPr>
      </p:pic>
      <p:sp>
        <p:nvSpPr>
          <p:cNvPr id="306" name="WordArt 6"/>
          <p:cNvSpPr txBox="1"/>
          <p:nvPr/>
        </p:nvSpPr>
        <p:spPr>
          <a:xfrm>
            <a:off x="2843280" y="333360"/>
            <a:ext cx="352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160234"/>
                    </a:gs>
                  </a:gsLst>
                  <a:lin ang="5400000"/>
                </a:gradFill>
                <a:latin typeface="Times New Roman"/>
              </a:rPr>
              <a:t>«БЮДЖЕТ ДЛ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160234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160234"/>
                    </a:gs>
                  </a:gsLst>
                  <a:lin ang="5400000"/>
                </a:gradFill>
                <a:latin typeface="Times New Roman"/>
              </a:rPr>
              <a:t>ГРАЖДАН»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160234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07" name="WordArt 7"/>
          <p:cNvSpPr txBox="1"/>
          <p:nvPr/>
        </p:nvSpPr>
        <p:spPr>
          <a:xfrm>
            <a:off x="2916360" y="6254640"/>
            <a:ext cx="33336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160234"/>
                    </a:gs>
                  </a:gsLst>
                  <a:lin ang="5400000"/>
                </a:gradFill>
                <a:latin typeface="Times New Roman"/>
              </a:rPr>
              <a:t>с. АЛЕКСАНДРОВСКОЕ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160234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826920" y="2708280"/>
            <a:ext cx="720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6b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ПОЛОЖ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1FC2-A88E-497E-A06A-7CD97AE55DC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1"/>
          <p:cNvSpPr/>
          <p:nvPr/>
        </p:nvSpPr>
        <p:spPr>
          <a:xfrm>
            <a:off x="1071720" y="404640"/>
            <a:ext cx="74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личия форм межбюджетных трансферт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468360" y="1197000"/>
          <a:ext cx="8351640" cy="4608360"/>
        </p:xfrm>
        <a:graphic>
          <a:graphicData uri="http://schemas.openxmlformats.org/drawingml/2006/table">
            <a:tbl>
              <a:tblPr/>
              <a:tblGrid>
                <a:gridCol w="1655640"/>
                <a:gridCol w="1727280"/>
                <a:gridCol w="2665440"/>
                <a:gridCol w="2303280"/>
              </a:tblGrid>
              <a:tr h="480960"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иции для сравне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2f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Дотация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Субвенц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ec7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Субси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6f7"/>
                    </a:solidFill>
                  </a:tcPr>
                </a:tc>
              </a:tr>
              <a:tr h="1009800"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ност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2f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безвозвратность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тельный возврат 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она была израсходована не вовремя либо не по целевому назначени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ec7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6f7"/>
                    </a:solidFill>
                  </a:tcPr>
                </a:tc>
              </a:tr>
              <a:tr h="687240"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г лиц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2f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у другого уровн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у другого уровн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ли юридическому лицу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ec7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у другого уровня, а так же юридическому лицу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ли физическому лицу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6f7"/>
                    </a:solidFill>
                  </a:tcPr>
                </a:tc>
              </a:tr>
              <a:tr h="701640"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вия предоставле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2f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текущих расходо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ое назначение,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гий контроль,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определенный срок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ec7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ое назначе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6f7"/>
                    </a:solidFill>
                  </a:tcPr>
                </a:tc>
              </a:tr>
              <a:tr h="1081080"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инвестиц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2f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текущие расходы, связанные с необходимостью дополнительного финансирова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жет полностью покрыть стоим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ec7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евое участ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6f7"/>
                    </a:solidFill>
                  </a:tcPr>
                </a:tc>
              </a:tr>
              <a:tr h="647640"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2f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нежна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нежная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cec7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нежная ил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уральная (продукты питания, учебники и т.п.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6f7"/>
                    </a:solidFill>
                  </a:tcPr>
                </a:tc>
              </a:tr>
            </a:tbl>
          </a:graphicData>
        </a:graphic>
      </p:graphicFrame>
      <p:sp>
        <p:nvSpPr>
          <p:cNvPr id="449" name="Rectangle 1"/>
          <p:cNvSpPr/>
          <p:nvPr/>
        </p:nvSpPr>
        <p:spPr>
          <a:xfrm>
            <a:off x="214200" y="142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54"/>
          <p:cNvSpPr/>
          <p:nvPr/>
        </p:nvSpPr>
        <p:spPr>
          <a:xfrm>
            <a:off x="468360" y="6524640"/>
            <a:ext cx="8288280" cy="333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8DF6-9F03-4AD3-A349-2D7D75447B6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54"/>
          <p:cNvSpPr/>
          <p:nvPr/>
        </p:nvSpPr>
        <p:spPr>
          <a:xfrm>
            <a:off x="179280" y="620640"/>
            <a:ext cx="8678880" cy="631800"/>
          </a:xfrm>
          <a:prstGeom prst="roundRect">
            <a:avLst>
              <a:gd name="adj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ffc000"/>
            </a:solidFill>
            <a:miter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Расх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 денежные средства, направляемые на финансов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задач и функций местного самоуправления в соответствии 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дательством Российской Федер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19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c4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Что такое расходы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Багетная рамка 21"/>
          <p:cNvSpPr/>
          <p:nvPr/>
        </p:nvSpPr>
        <p:spPr>
          <a:xfrm>
            <a:off x="4067280" y="1916280"/>
            <a:ext cx="4786200" cy="4032000"/>
          </a:xfrm>
          <a:prstGeom prst="bevel">
            <a:avLst>
              <a:gd name="adj" fmla="val 12500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Принципы формирования расходов бюджета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 ведомственной структуре (в разрезе ГРБС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 муниципальным программа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0" descr="Кошелек Out"/>
          <p:cNvPicPr/>
          <p:nvPr/>
        </p:nvPicPr>
        <p:blipFill>
          <a:blip r:embed="rId2"/>
          <a:stretch/>
        </p:blipFill>
        <p:spPr>
          <a:xfrm>
            <a:off x="684360" y="1844640"/>
            <a:ext cx="258444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4A5D-0D55-4046-9ED5-2071B88153C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Рисунок 7" descr="16396227_f.jpg"/>
          <p:cNvPicPr/>
          <p:nvPr/>
        </p:nvPicPr>
        <p:blipFill>
          <a:blip r:embed="rId2"/>
          <a:stretch/>
        </p:blipFill>
        <p:spPr>
          <a:xfrm>
            <a:off x="0" y="950760"/>
            <a:ext cx="9144000" cy="5380200"/>
          </a:xfrm>
          <a:prstGeom prst="rect">
            <a:avLst/>
          </a:prstGeom>
          <a:ln w="0">
            <a:noFill/>
          </a:ln>
        </p:spPr>
      </p:pic>
      <p:pic>
        <p:nvPicPr>
          <p:cNvPr id="458" name="Схема 2" descr=""/>
          <p:cNvPicPr/>
          <p:nvPr/>
        </p:nvPicPr>
        <p:blipFill>
          <a:blip r:embed="rId3"/>
          <a:stretch/>
        </p:blipFill>
        <p:spPr>
          <a:xfrm>
            <a:off x="-42840" y="927000"/>
            <a:ext cx="9186840" cy="5461200"/>
          </a:xfrm>
          <a:prstGeom prst="rect">
            <a:avLst/>
          </a:prstGeom>
          <a:ln w="0">
            <a:noFill/>
          </a:ln>
        </p:spPr>
      </p:pic>
      <p:sp>
        <p:nvSpPr>
          <p:cNvPr id="459" name="TextBox 10"/>
          <p:cNvSpPr/>
          <p:nvPr/>
        </p:nvSpPr>
        <p:spPr>
          <a:xfrm>
            <a:off x="-31680" y="0"/>
            <a:ext cx="917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ведомственной структуре расходов районного бюджета утверждаются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AutoShape 9"/>
          <p:cNvSpPr/>
          <p:nvPr/>
        </p:nvSpPr>
        <p:spPr>
          <a:xfrm>
            <a:off x="395280" y="1844640"/>
            <a:ext cx="806436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b08d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1806-3B9E-4B98-ADC1-31EEF146DFF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1"/>
          <p:cNvSpPr/>
          <p:nvPr/>
        </p:nvSpPr>
        <p:spPr>
          <a:xfrm>
            <a:off x="324000" y="260280"/>
            <a:ext cx="7286400" cy="776520"/>
          </a:xfrm>
          <a:prstGeom prst="rect">
            <a:avLst/>
          </a:prstGeom>
          <a:gradFill rotWithShape="0">
            <a:gsLst>
              <a:gs pos="0">
                <a:srgbClr val="e2ebf5"/>
              </a:gs>
              <a:gs pos="100000">
                <a:srgbClr val="f6f9fd"/>
              </a:gs>
            </a:gsLst>
            <a:lin ang="16200000"/>
          </a:gradFill>
          <a:ln w="9360">
            <a:solidFill>
              <a:srgbClr val="c9d0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йонный бюджет формируется на основе  муниципальных програм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684360" y="1916280"/>
            <a:ext cx="748800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сновная цель программного бюджета –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вышение результативности бюджетных расход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Багетная рамка 8"/>
          <p:cNvSpPr/>
          <p:nvPr/>
        </p:nvSpPr>
        <p:spPr>
          <a:xfrm>
            <a:off x="1547640" y="3429000"/>
            <a:ext cx="7358400" cy="2500200"/>
          </a:xfrm>
          <a:prstGeom prst="bevel">
            <a:avLst>
              <a:gd name="adj" fmla="val 12500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ый бюджет позволит обеспечить повышение прозрачности и понятности бюджетных расходов не только для специалистов, а для широкого круга ли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F957-6D39-429B-AA77-EA92558EDCC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5640" y="-353160"/>
            <a:ext cx="7072200" cy="353160"/>
          </a:xfrm>
          <a:prstGeom prst="rect">
            <a:avLst/>
          </a:prstGeom>
          <a:gradFill rotWithShape="0">
            <a:gsLst>
              <a:gs pos="0">
                <a:srgbClr val="a6a6a6"/>
              </a:gs>
              <a:gs pos="100000">
                <a:srgbClr val="ecf0f4"/>
              </a:gs>
            </a:gsLst>
            <a:lin ang="162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7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67" name="Заголовок 3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28760" y="3071520"/>
            <a:ext cx="14284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Заголовок 3"/>
          <p:cNvSpPr/>
          <p:nvPr/>
        </p:nvSpPr>
        <p:spPr>
          <a:xfrm>
            <a:off x="0" y="642960"/>
            <a:ext cx="9144000" cy="571320"/>
          </a:xfrm>
          <a:prstGeom prst="rect">
            <a:avLst/>
          </a:prstGeom>
          <a:gradFill rotWithShape="0">
            <a:gsLst>
              <a:gs pos="0">
                <a:srgbClr val="a6a6a6"/>
              </a:gs>
              <a:gs pos="100000">
                <a:srgbClr val="ecf0f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– Расходы = Дефицит (Профицит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Содержимое 11" descr="deng84.png"/>
          <p:cNvPicPr/>
          <p:nvPr/>
        </p:nvPicPr>
        <p:blipFill>
          <a:blip r:embed="rId2"/>
          <a:stretch/>
        </p:blipFill>
        <p:spPr>
          <a:xfrm>
            <a:off x="611280" y="2276640"/>
            <a:ext cx="1233360" cy="9302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5678640" y="3569760"/>
            <a:ext cx="1388880" cy="4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136240" y="3573000"/>
            <a:ext cx="1389240" cy="4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7308360" y="3144600"/>
            <a:ext cx="142884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Блок-схема: альтернативный процесс 24"/>
          <p:cNvSpPr/>
          <p:nvPr/>
        </p:nvSpPr>
        <p:spPr>
          <a:xfrm>
            <a:off x="0" y="5445000"/>
            <a:ext cx="4500720" cy="1413000"/>
          </a:xfrm>
          <a:prstGeom prst="flowChartAlternateProcess">
            <a:avLst/>
          </a:prstGeom>
          <a:gradFill rotWithShape="0">
            <a:gsLst>
              <a:gs pos="0">
                <a:srgbClr val="ff4747"/>
              </a:gs>
              <a:gs pos="100000">
                <a:srgbClr val="ffc2c2"/>
              </a:gs>
            </a:gsLst>
            <a:lin ang="162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евышении расходов над доходами принимается решение об источниках покрытия дефицита (например, использовать имеющиеся накопления, остатки, взять в долг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Содержимое 11" descr="deng84.png"/>
          <p:cNvPicPr/>
          <p:nvPr/>
        </p:nvPicPr>
        <p:blipFill>
          <a:blip r:embed="rId3"/>
          <a:stretch/>
        </p:blipFill>
        <p:spPr>
          <a:xfrm>
            <a:off x="2050920" y="2276640"/>
            <a:ext cx="1859040" cy="1403280"/>
          </a:xfrm>
          <a:prstGeom prst="rect">
            <a:avLst/>
          </a:prstGeom>
          <a:ln w="0">
            <a:noFill/>
          </a:ln>
        </p:spPr>
      </p:pic>
      <p:pic>
        <p:nvPicPr>
          <p:cNvPr id="476" name="Содержимое 11" descr="deng84.png"/>
          <p:cNvPicPr/>
          <p:nvPr/>
        </p:nvPicPr>
        <p:blipFill>
          <a:blip r:embed="rId4"/>
          <a:stretch/>
        </p:blipFill>
        <p:spPr>
          <a:xfrm>
            <a:off x="5305320" y="2276640"/>
            <a:ext cx="1859040" cy="14032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11" descr="deng84.png"/>
          <p:cNvPicPr/>
          <p:nvPr/>
        </p:nvPicPr>
        <p:blipFill>
          <a:blip r:embed="rId5"/>
          <a:stretch/>
        </p:blipFill>
        <p:spPr>
          <a:xfrm>
            <a:off x="7308720" y="2276640"/>
            <a:ext cx="1233720" cy="931680"/>
          </a:xfrm>
          <a:prstGeom prst="rect">
            <a:avLst/>
          </a:prstGeom>
          <a:ln w="0">
            <a:noFill/>
          </a:ln>
        </p:spPr>
      </p:pic>
      <p:sp>
        <p:nvSpPr>
          <p:cNvPr id="478" name="Блок-схема: альтернативный процесс 25"/>
          <p:cNvSpPr/>
          <p:nvPr/>
        </p:nvSpPr>
        <p:spPr>
          <a:xfrm>
            <a:off x="4643280" y="5445000"/>
            <a:ext cx="4500720" cy="1413000"/>
          </a:xfrm>
          <a:prstGeom prst="flowChartAlternateProcess">
            <a:avLst/>
          </a:prstGeom>
          <a:gradFill rotWithShape="0">
            <a:gsLst>
              <a:gs pos="0">
                <a:srgbClr val="ccddee"/>
              </a:gs>
              <a:gs pos="100000">
                <a:srgbClr val="f0f5fb"/>
              </a:gs>
            </a:gsLst>
            <a:lin ang="16200000"/>
          </a:gradFill>
          <a:ln w="9360">
            <a:solidFill>
              <a:srgbClr val="9fae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евышении доходов над расходами принимается решение, как их использовать (например, накапливать резервы, остатки, погашать долг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Блок-схема: альтернативный процесс 26"/>
          <p:cNvSpPr/>
          <p:nvPr/>
        </p:nvSpPr>
        <p:spPr>
          <a:xfrm>
            <a:off x="0" y="4373640"/>
            <a:ext cx="4500720" cy="1000080"/>
          </a:xfrm>
          <a:prstGeom prst="flowChartAlternateProcess">
            <a:avLst/>
          </a:prstGeom>
          <a:gradFill rotWithShape="0">
            <a:gsLst>
              <a:gs pos="0">
                <a:srgbClr val="ff4747"/>
              </a:gs>
              <a:gs pos="100000">
                <a:srgbClr val="ffc2c2"/>
              </a:gs>
            </a:gsLst>
            <a:lin ang="162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ходы больше доходов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Блок-схема: альтернативный процесс 30"/>
          <p:cNvSpPr/>
          <p:nvPr/>
        </p:nvSpPr>
        <p:spPr>
          <a:xfrm>
            <a:off x="4643280" y="4367160"/>
            <a:ext cx="4500720" cy="1000080"/>
          </a:xfrm>
          <a:prstGeom prst="flowChartAlternateProcess">
            <a:avLst/>
          </a:prstGeom>
          <a:gradFill rotWithShape="0">
            <a:gsLst>
              <a:gs pos="0">
                <a:srgbClr val="ccddee"/>
              </a:gs>
              <a:gs pos="100000">
                <a:srgbClr val="f0f5fb"/>
              </a:gs>
            </a:gsLst>
            <a:lin ang="16200000"/>
          </a:gradFill>
          <a:ln w="9360">
            <a:solidFill>
              <a:srgbClr val="9fae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ци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ходы больше расходов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Блок-схема: альтернативный процесс 33"/>
          <p:cNvSpPr/>
          <p:nvPr/>
        </p:nvSpPr>
        <p:spPr>
          <a:xfrm>
            <a:off x="0" y="4149720"/>
            <a:ext cx="4500720" cy="71280"/>
          </a:xfrm>
          <a:prstGeom prst="flowChartAlternateProcess">
            <a:avLst/>
          </a:prstGeom>
          <a:gradFill rotWithShape="0">
            <a:gsLst>
              <a:gs pos="0">
                <a:srgbClr val="ff4747"/>
              </a:gs>
              <a:gs pos="100000">
                <a:srgbClr val="ffc2c2"/>
              </a:gs>
            </a:gsLst>
            <a:lin ang="162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Блок-схема: альтернативный процесс 34"/>
          <p:cNvSpPr/>
          <p:nvPr/>
        </p:nvSpPr>
        <p:spPr>
          <a:xfrm>
            <a:off x="4643280" y="4149720"/>
            <a:ext cx="4500720" cy="61920"/>
          </a:xfrm>
          <a:prstGeom prst="flowChartAlternateProcess">
            <a:avLst/>
          </a:prstGeom>
          <a:gradFill rotWithShape="0">
            <a:gsLst>
              <a:gs pos="0">
                <a:srgbClr val="ccddee"/>
              </a:gs>
              <a:gs pos="100000">
                <a:srgbClr val="f0f5fb"/>
              </a:gs>
            </a:gsLst>
            <a:lin ang="16200000"/>
          </a:gradFill>
          <a:ln w="9360">
            <a:solidFill>
              <a:srgbClr val="9fae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19" descr="Arrow"/>
          <p:cNvPicPr/>
          <p:nvPr/>
        </p:nvPicPr>
        <p:blipFill>
          <a:blip r:embed="rId6"/>
          <a:stretch/>
        </p:blipFill>
        <p:spPr>
          <a:xfrm>
            <a:off x="826920" y="1700280"/>
            <a:ext cx="622440" cy="5396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0" descr="Arrow"/>
          <p:cNvPicPr/>
          <p:nvPr/>
        </p:nvPicPr>
        <p:blipFill>
          <a:blip r:embed="rId7"/>
          <a:stretch/>
        </p:blipFill>
        <p:spPr>
          <a:xfrm>
            <a:off x="2556000" y="1700280"/>
            <a:ext cx="622080" cy="5396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1" descr="Arrow"/>
          <p:cNvPicPr/>
          <p:nvPr/>
        </p:nvPicPr>
        <p:blipFill>
          <a:blip r:embed="rId8"/>
          <a:stretch/>
        </p:blipFill>
        <p:spPr>
          <a:xfrm>
            <a:off x="5867280" y="1700280"/>
            <a:ext cx="622440" cy="5396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2" descr="Arrow"/>
          <p:cNvPicPr/>
          <p:nvPr/>
        </p:nvPicPr>
        <p:blipFill>
          <a:blip r:embed="rId9"/>
          <a:stretch/>
        </p:blipFill>
        <p:spPr>
          <a:xfrm>
            <a:off x="7451640" y="1700280"/>
            <a:ext cx="6224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F6EA-4099-4C98-A8B7-F704F6DAF9E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Заголовок 1"/>
          <p:cNvGrpSpPr/>
          <p:nvPr/>
        </p:nvGrpSpPr>
        <p:grpSpPr>
          <a:xfrm>
            <a:off x="633240" y="493560"/>
            <a:ext cx="7785360" cy="652680"/>
            <a:chOff x="633240" y="493560"/>
            <a:chExt cx="7785360" cy="652680"/>
          </a:xfrm>
        </p:grpSpPr>
        <p:pic>
          <p:nvPicPr>
            <p:cNvPr id="48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633240" y="493560"/>
              <a:ext cx="77853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642960" y="500040"/>
              <a:ext cx="77724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Verdana"/>
                </a:rPr>
                <a:t>Информация для справок     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Подзаголовок 2"/>
          <p:cNvGrpSpPr/>
          <p:nvPr/>
        </p:nvGrpSpPr>
        <p:grpSpPr>
          <a:xfrm>
            <a:off x="596880" y="1762200"/>
            <a:ext cx="8089920" cy="3767040"/>
            <a:chOff x="596880" y="1762200"/>
            <a:chExt cx="8089920" cy="3767040"/>
          </a:xfrm>
        </p:grpSpPr>
        <p:pic>
          <p:nvPicPr>
            <p:cNvPr id="492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596880" y="1762200"/>
              <a:ext cx="8089920" cy="37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611280" y="1773360"/>
              <a:ext cx="8064360" cy="37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Финансовое управление администрации  Александровского муниципального района Ставропольского края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Местонахождение: 356 300  Ставропольский край, 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с. Александровское ул. Карла Маркса, 69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Телефон (факс): 2–67-97 (2-77-14)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Адрес электронной почты: </a:t>
              </a:r>
              <a:r>
                <a:rPr b="0" lang="en-US" sz="2200" spc="-1" strike="noStrike" u="sng">
                  <a:solidFill>
                    <a:srgbClr val="336699"/>
                  </a:solidFill>
                  <a:uFillTx/>
                  <a:latin typeface="Bookman Old Style"/>
                  <a:hlinkClick r:id="rId4"/>
                </a:rPr>
                <a:t>fumfskal@mail.ru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mbria"/>
                </a:rPr>
                <a:t>График работы: с 8:00 до 17:00 понедельник-пятница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8880-CE24-4381-9607-34D993AE78E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7" descr="Picture2"/>
          <p:cNvPicPr/>
          <p:nvPr/>
        </p:nvPicPr>
        <p:blipFill>
          <a:blip r:embed="rId2"/>
          <a:stretch/>
        </p:blipFill>
        <p:spPr>
          <a:xfrm>
            <a:off x="2843280" y="3213000"/>
            <a:ext cx="3314520" cy="3314880"/>
          </a:xfrm>
          <a:prstGeom prst="rect">
            <a:avLst/>
          </a:prstGeom>
          <a:ln w="0">
            <a:noFill/>
          </a:ln>
        </p:spPr>
      </p:pic>
      <p:sp>
        <p:nvSpPr>
          <p:cNvPr id="311" name="Выгнутая вверх стрелка 17"/>
          <p:cNvSpPr/>
          <p:nvPr/>
        </p:nvSpPr>
        <p:spPr>
          <a:xfrm>
            <a:off x="4356000" y="2968560"/>
            <a:ext cx="2712960" cy="557280"/>
          </a:xfrm>
          <a:custGeom>
            <a:avLst/>
            <a:gdLst>
              <a:gd name="textAreaLeft" fmla="*/ 619920 w 2712960"/>
              <a:gd name="textAreaRight" fmla="*/ 2015280 w 2712960"/>
              <a:gd name="textAreaTop" fmla="*/ 74520 h 557280"/>
              <a:gd name="textAreaBottom" fmla="*/ 482760 h 55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71" hR="21600" stAng="10800000" swAng="5400000"/>
                <a:lnTo>
                  <a:pt x="11110" y="0"/>
                </a:lnTo>
                <a:arcTo wR="9871" hR="21600" stAng="-5400000" swAng="3631944"/>
                <a:lnTo>
                  <a:pt x="21287" y="16200"/>
                </a:lnTo>
                <a:lnTo>
                  <a:pt x="20361" y="21600"/>
                </a:lnTo>
                <a:lnTo>
                  <a:pt x="18808" y="16200"/>
                </a:lnTo>
                <a:lnTo>
                  <a:pt x="19428" y="16200"/>
                </a:lnTo>
                <a:arcTo wR="9871" hR="21600" stAng="-1768056" swAng="-3533179"/>
                <a:lnTo>
                  <a:pt x="10490" y="43"/>
                </a:lnTo>
                <a:arcTo wR="9871" hR="21600" stAng="-5498764" swAng="-5301236"/>
                <a:close/>
              </a:path>
              <a:path fill="darkenLess" w="21600" h="21600">
                <a:moveTo>
                  <a:pt x="0" y="21600"/>
                </a:moveTo>
                <a:arcTo wR="9871" hR="21600" stAng="10800000" swAng="5400000"/>
                <a:lnTo>
                  <a:pt x="9871" y="0"/>
                </a:lnTo>
                <a:arcTo wR="9871" hR="21600" stAng="-5400000" swAng="98764"/>
                <a:lnTo>
                  <a:pt x="10490" y="43"/>
                </a:lnTo>
                <a:arcTo wR="9871" hR="21600" stAng="-5498764" swAng="-5301236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Выгнутая вверх стрелка 18"/>
          <p:cNvSpPr/>
          <p:nvPr/>
        </p:nvSpPr>
        <p:spPr>
          <a:xfrm rot="240000">
            <a:off x="1547640" y="3090600"/>
            <a:ext cx="2318040" cy="557280"/>
          </a:xfrm>
          <a:custGeom>
            <a:avLst/>
            <a:gdLst>
              <a:gd name="textAreaLeft" fmla="*/ 527040 w 2318040"/>
              <a:gd name="textAreaRight" fmla="*/ 1721160 w 2318040"/>
              <a:gd name="textAreaTop" fmla="*/ 74520 h 557280"/>
              <a:gd name="textAreaBottom" fmla="*/ 482760 h 55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27" hR="21600" stAng="10800000" swAng="5400000"/>
                <a:lnTo>
                  <a:pt x="11125" y="0"/>
                </a:lnTo>
                <a:arcTo wR="9827" hR="21600" stAng="-5400000" swAng="3625358"/>
                <a:lnTo>
                  <a:pt x="21288" y="16200"/>
                </a:lnTo>
                <a:lnTo>
                  <a:pt x="20302" y="21600"/>
                </a:lnTo>
                <a:lnTo>
                  <a:pt x="18692" y="16200"/>
                </a:lnTo>
                <a:lnTo>
                  <a:pt x="19341" y="16200"/>
                </a:lnTo>
                <a:arcTo wR="9827" hR="21600" stAng="-1774642" swAng="-3521872"/>
                <a:lnTo>
                  <a:pt x="10476" y="47"/>
                </a:lnTo>
                <a:arcTo wR="9827" hR="21600" stAng="-5503486" swAng="-5296514"/>
                <a:close/>
              </a:path>
              <a:path fill="darkenLess" w="21600" h="21600">
                <a:moveTo>
                  <a:pt x="0" y="21600"/>
                </a:moveTo>
                <a:arcTo wR="9827" hR="21600" stAng="10800000" swAng="5400000"/>
                <a:lnTo>
                  <a:pt x="9827" y="0"/>
                </a:lnTo>
                <a:arcTo wR="9827" hR="21600" stAng="-5400000" swAng="103486"/>
                <a:lnTo>
                  <a:pt x="10476" y="47"/>
                </a:lnTo>
                <a:arcTo wR="9827" hR="21600" stAng="-5503486" swAng="-5296514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6"/>
          <p:cNvSpPr/>
          <p:nvPr/>
        </p:nvSpPr>
        <p:spPr>
          <a:xfrm>
            <a:off x="576360" y="99216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Что такое бюджет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22"/>
          <p:cNvGrpSpPr/>
          <p:nvPr/>
        </p:nvGrpSpPr>
        <p:grpSpPr>
          <a:xfrm>
            <a:off x="531720" y="1773360"/>
            <a:ext cx="8432640" cy="863640"/>
            <a:chOff x="531720" y="1773360"/>
            <a:chExt cx="8432640" cy="863640"/>
          </a:xfrm>
        </p:grpSpPr>
        <p:sp>
          <p:nvSpPr>
            <p:cNvPr id="315" name="AutoShape 54"/>
            <p:cNvSpPr/>
            <p:nvPr/>
          </p:nvSpPr>
          <p:spPr>
            <a:xfrm>
              <a:off x="531720" y="1773360"/>
              <a:ext cx="8351640" cy="863640"/>
            </a:xfrm>
            <a:prstGeom prst="roundRect">
              <a:avLst>
                <a:gd name="adj" fmla="val 16667"/>
              </a:avLst>
            </a:prstGeom>
            <a:solidFill>
              <a:srgbClr val="ffff66">
                <a:alpha val="50000"/>
              </a:srgbClr>
            </a:solidFill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Прямоугольник 2"/>
            <p:cNvSpPr/>
            <p:nvPr/>
          </p:nvSpPr>
          <p:spPr>
            <a:xfrm>
              <a:off x="603000" y="1773360"/>
              <a:ext cx="83613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7030a0"/>
                  </a:solidFill>
                  <a:latin typeface="Arial"/>
                </a:rPr>
                <a:t>Бюджет</a:t>
              </a:r>
              <a:r>
                <a:rPr b="1" lang="ru-RU" sz="21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ru-RU" sz="2100" spc="-1" strike="noStrike">
                  <a:solidFill>
                    <a:srgbClr val="473a35"/>
                  </a:solidFill>
                  <a:latin typeface="Arial"/>
                </a:rPr>
                <a:t>образование </a:t>
              </a: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ru-RU" sz="2100" spc="-1" strike="noStrike">
                  <a:solidFill>
                    <a:srgbClr val="0070c0"/>
                  </a:solidFill>
                  <a:latin typeface="Arial"/>
                </a:rPr>
                <a:t>расходование</a:t>
              </a: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 денежных средств,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способствующих решению задач местного самоуправления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Picture 24" descr="Quizz_transparent1"/>
          <p:cNvPicPr/>
          <p:nvPr/>
        </p:nvPicPr>
        <p:blipFill>
          <a:blip r:embed="rId3"/>
          <a:stretch/>
        </p:blipFill>
        <p:spPr>
          <a:xfrm>
            <a:off x="7308720" y="260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5" descr="Кошелек In"/>
          <p:cNvPicPr/>
          <p:nvPr/>
        </p:nvPicPr>
        <p:blipFill>
          <a:blip r:embed="rId4"/>
          <a:stretch/>
        </p:blipFill>
        <p:spPr>
          <a:xfrm>
            <a:off x="611280" y="3573360"/>
            <a:ext cx="1676160" cy="25164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6" descr="Кошелек Out"/>
          <p:cNvPicPr/>
          <p:nvPr/>
        </p:nvPicPr>
        <p:blipFill>
          <a:blip r:embed="rId5"/>
          <a:stretch/>
        </p:blipFill>
        <p:spPr>
          <a:xfrm>
            <a:off x="6659640" y="3573360"/>
            <a:ext cx="1573200" cy="251964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12"/>
          <p:cNvSpPr/>
          <p:nvPr/>
        </p:nvSpPr>
        <p:spPr>
          <a:xfrm rot="16200000">
            <a:off x="5984640" y="432432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Расход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3"/>
          <p:cNvSpPr/>
          <p:nvPr/>
        </p:nvSpPr>
        <p:spPr>
          <a:xfrm rot="5400000">
            <a:off x="943920" y="43459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3a35"/>
                </a:solidFill>
                <a:latin typeface="Arial Black"/>
              </a:rPr>
              <a:t>Доход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28"/>
          <p:cNvSpPr txBox="1"/>
          <p:nvPr/>
        </p:nvSpPr>
        <p:spPr>
          <a:xfrm rot="20821200">
            <a:off x="3719520" y="4149360"/>
            <a:ext cx="1592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ЮДЖЕТ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6847-DB1B-4D6D-A369-E87922F25E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Схема 6" descr=""/>
          <p:cNvPicPr/>
          <p:nvPr/>
        </p:nvPicPr>
        <p:blipFill>
          <a:blip r:embed="rId2"/>
          <a:stretch/>
        </p:blipFill>
        <p:spPr>
          <a:xfrm>
            <a:off x="4363920" y="1620720"/>
            <a:ext cx="4670640" cy="4621320"/>
          </a:xfrm>
          <a:prstGeom prst="rect">
            <a:avLst/>
          </a:prstGeom>
          <a:ln w="0">
            <a:noFill/>
          </a:ln>
        </p:spPr>
      </p:pic>
      <p:grpSp>
        <p:nvGrpSpPr>
          <p:cNvPr id="325" name="Group 12"/>
          <p:cNvGrpSpPr/>
          <p:nvPr/>
        </p:nvGrpSpPr>
        <p:grpSpPr>
          <a:xfrm>
            <a:off x="5148360" y="260280"/>
            <a:ext cx="3620880" cy="1569600"/>
            <a:chOff x="5148360" y="260280"/>
            <a:chExt cx="3620880" cy="1569600"/>
          </a:xfrm>
        </p:grpSpPr>
        <p:grpSp>
          <p:nvGrpSpPr>
            <p:cNvPr id="326" name="Скругленная прямоугольная выноска 7"/>
            <p:cNvGrpSpPr/>
            <p:nvPr/>
          </p:nvGrpSpPr>
          <p:grpSpPr>
            <a:xfrm>
              <a:off x="5148360" y="273240"/>
              <a:ext cx="3620880" cy="1556640"/>
              <a:chOff x="5148360" y="273240"/>
              <a:chExt cx="3620880" cy="1556640"/>
            </a:xfrm>
          </p:grpSpPr>
          <p:pic>
            <p:nvPicPr>
              <p:cNvPr id="327" name="Скругленная прямоугольная выноска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148360" y="273240"/>
                <a:ext cx="3620880" cy="155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5587200" y="353520"/>
                <a:ext cx="3080880" cy="71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9" name="TextBox 9" descr=""/>
            <p:cNvPicPr/>
            <p:nvPr/>
          </p:nvPicPr>
          <p:blipFill>
            <a:blip r:embed="rId4"/>
            <a:stretch/>
          </p:blipFill>
          <p:spPr>
            <a:xfrm>
              <a:off x="5792040" y="260280"/>
              <a:ext cx="2763000" cy="9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0" name="Схема 8" descr=""/>
          <p:cNvPicPr/>
          <p:nvPr/>
        </p:nvPicPr>
        <p:blipFill>
          <a:blip r:embed="rId5"/>
          <a:stretch/>
        </p:blipFill>
        <p:spPr>
          <a:xfrm>
            <a:off x="695160" y="1305000"/>
            <a:ext cx="3498840" cy="5290920"/>
          </a:xfrm>
          <a:prstGeom prst="rect">
            <a:avLst/>
          </a:prstGeom>
          <a:ln w="0">
            <a:noFill/>
          </a:ln>
        </p:spPr>
      </p:pic>
      <p:sp>
        <p:nvSpPr>
          <p:cNvPr id="331" name="TextBox 11"/>
          <p:cNvSpPr/>
          <p:nvPr/>
        </p:nvSpPr>
        <p:spPr>
          <a:xfrm>
            <a:off x="1403280" y="270828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ЛОГОПЛАТЕЛЬЩИК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4"/>
          <p:cNvSpPr/>
          <p:nvPr/>
        </p:nvSpPr>
        <p:spPr>
          <a:xfrm>
            <a:off x="1332000" y="4653000"/>
            <a:ext cx="223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ЛУЧАТЕЛЬ СОЦИАЛЬНЫХ ГАРАНТИЙ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13"/>
          <p:cNvSpPr txBox="1"/>
          <p:nvPr/>
        </p:nvSpPr>
        <p:spPr>
          <a:xfrm>
            <a:off x="468360" y="260280"/>
            <a:ext cx="46800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3b2c1"/>
                    </a:gs>
                    <a:gs pos="100000">
                      <a:srgbClr val="000099"/>
                    </a:gs>
                  </a:gsLst>
                  <a:lin ang="5400000"/>
                </a:gradFill>
                <a:latin typeface="Arial"/>
              </a:rPr>
              <a:t>ГРАЖДАНИН И ЕГО УЧАСТИЕ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3b2c1"/>
                  </a:gs>
                  <a:gs pos="100000">
                    <a:srgbClr val="0000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3b2c1"/>
                    </a:gs>
                    <a:gs pos="100000">
                      <a:srgbClr val="000099"/>
                    </a:gs>
                  </a:gsLst>
                  <a:lin ang="5400000"/>
                </a:gradFill>
                <a:latin typeface="Arial"/>
              </a:rPr>
              <a:t>В БЮДЖЕТНОМ ПРОЦЕСС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3b2c1"/>
                  </a:gs>
                  <a:gs pos="100000">
                    <a:srgbClr val="0000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2743-0523-47D3-920A-63D766BCC47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Group 2" descr=""/>
          <p:cNvPicPr/>
          <p:nvPr/>
        </p:nvPicPr>
        <p:blipFill>
          <a:blip r:embed="rId2"/>
          <a:stretch/>
        </p:blipFill>
        <p:spPr>
          <a:xfrm>
            <a:off x="1042920" y="4621320"/>
            <a:ext cx="7272360" cy="118260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6"/>
          <p:cNvGrpSpPr/>
          <p:nvPr/>
        </p:nvGrpSpPr>
        <p:grpSpPr>
          <a:xfrm>
            <a:off x="1042920" y="3325680"/>
            <a:ext cx="7229160" cy="1071000"/>
            <a:chOff x="1042920" y="3325680"/>
            <a:chExt cx="7229160" cy="1071000"/>
          </a:xfrm>
        </p:grpSpPr>
        <p:sp>
          <p:nvSpPr>
            <p:cNvPr id="337" name="AutoShape 7"/>
            <p:cNvSpPr/>
            <p:nvPr/>
          </p:nvSpPr>
          <p:spPr>
            <a:xfrm>
              <a:off x="1042920" y="3325680"/>
              <a:ext cx="7229160" cy="107100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8"/>
            <p:cNvSpPr/>
            <p:nvPr/>
          </p:nvSpPr>
          <p:spPr>
            <a:xfrm>
              <a:off x="1101240" y="3363840"/>
              <a:ext cx="7145280" cy="47340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3b2c1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AutoShape 18"/>
          <p:cNvSpPr/>
          <p:nvPr/>
        </p:nvSpPr>
        <p:spPr>
          <a:xfrm>
            <a:off x="514440" y="3411360"/>
            <a:ext cx="685800" cy="685800"/>
          </a:xfrm>
          <a:prstGeom prst="diamond">
            <a:avLst/>
          </a:prstGeom>
          <a:solidFill>
            <a:srgbClr val="a3b2c1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628920" y="352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0"/>
          <p:cNvSpPr/>
          <p:nvPr/>
        </p:nvSpPr>
        <p:spPr>
          <a:xfrm>
            <a:off x="514440" y="4902120"/>
            <a:ext cx="685800" cy="685800"/>
          </a:xfrm>
          <a:prstGeom prst="diamond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659160" y="498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22"/>
          <p:cNvGrpSpPr/>
          <p:nvPr/>
        </p:nvGrpSpPr>
        <p:grpSpPr>
          <a:xfrm>
            <a:off x="1116000" y="1957320"/>
            <a:ext cx="7200720" cy="1142280"/>
            <a:chOff x="1116000" y="1957320"/>
            <a:chExt cx="7200720" cy="1142280"/>
          </a:xfrm>
        </p:grpSpPr>
        <p:sp>
          <p:nvSpPr>
            <p:cNvPr id="344" name="AutoShape 23"/>
            <p:cNvSpPr/>
            <p:nvPr/>
          </p:nvSpPr>
          <p:spPr>
            <a:xfrm>
              <a:off x="1116000" y="1957320"/>
              <a:ext cx="7200720" cy="1142280"/>
            </a:xfrm>
            <a:prstGeom prst="roundRect">
              <a:avLst>
                <a:gd name="adj" fmla="val 16667"/>
              </a:avLst>
            </a:prstGeom>
            <a:solidFill>
              <a:srgbClr val="336699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24"/>
            <p:cNvSpPr/>
            <p:nvPr/>
          </p:nvSpPr>
          <p:spPr>
            <a:xfrm>
              <a:off x="1174320" y="1998000"/>
              <a:ext cx="7117200" cy="50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669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AutoShape 26"/>
          <p:cNvSpPr/>
          <p:nvPr/>
        </p:nvSpPr>
        <p:spPr>
          <a:xfrm>
            <a:off x="500040" y="2187720"/>
            <a:ext cx="685800" cy="685800"/>
          </a:xfrm>
          <a:prstGeom prst="diamond">
            <a:avLst/>
          </a:prstGeom>
          <a:solidFill>
            <a:srgbClr val="336699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7"/>
          <p:cNvSpPr/>
          <p:nvPr/>
        </p:nvSpPr>
        <p:spPr>
          <a:xfrm>
            <a:off x="644760" y="233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solidFill>
            <a:srgbClr val="94bac1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ование проекта районного бюджета </a:t>
            </a:r>
            <a:br>
              <a:rPr sz="3000"/>
            </a:br>
            <a:r>
              <a:rPr b="1" i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уществляется на основе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Прямоугольник 33"/>
          <p:cNvSpPr/>
          <p:nvPr/>
        </p:nvSpPr>
        <p:spPr>
          <a:xfrm>
            <a:off x="1258920" y="1957320"/>
            <a:ext cx="671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го послания Президента Российской Федерации  Федеральному собранию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35"/>
          <p:cNvSpPr/>
          <p:nvPr/>
        </p:nvSpPr>
        <p:spPr>
          <a:xfrm>
            <a:off x="800280" y="3265560"/>
            <a:ext cx="735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а социально-экономического развития Александровского района Ставропольского края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36"/>
          <p:cNvSpPr/>
          <p:nvPr/>
        </p:nvSpPr>
        <p:spPr>
          <a:xfrm>
            <a:off x="1187280" y="4616280"/>
            <a:ext cx="707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х направлений бюджетной и налоговой политики Александровского муниципального района на очередной финансовый годи плановый период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AD93-7B00-422A-92F7-758C96689A7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Рисунок 29" descr="5540738.jpg"/>
          <p:cNvPicPr/>
          <p:nvPr/>
        </p:nvPicPr>
        <p:blipFill>
          <a:blip r:embed="rId2">
            <a:lum bright="70000" contrast="-70000"/>
          </a:blip>
          <a:srcRect l="0" t="43" r="0" b="12403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grpSp>
        <p:nvGrpSpPr>
          <p:cNvPr id="354" name="AutoShape 3"/>
          <p:cNvGrpSpPr/>
          <p:nvPr/>
        </p:nvGrpSpPr>
        <p:grpSpPr>
          <a:xfrm>
            <a:off x="195120" y="3481560"/>
            <a:ext cx="2651400" cy="1742760"/>
            <a:chOff x="195120" y="3481560"/>
            <a:chExt cx="2651400" cy="1742760"/>
          </a:xfrm>
        </p:grpSpPr>
        <p:pic>
          <p:nvPicPr>
            <p:cNvPr id="355" name="AutoShape 3" descr=""/>
            <p:cNvPicPr/>
            <p:nvPr/>
          </p:nvPicPr>
          <p:blipFill>
            <a:blip r:embed="rId3"/>
            <a:stretch/>
          </p:blipFill>
          <p:spPr>
            <a:xfrm>
              <a:off x="195120" y="3481560"/>
              <a:ext cx="265140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277920" y="3565440"/>
              <a:ext cx="24922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4"/>
          <p:cNvSpPr/>
          <p:nvPr/>
        </p:nvSpPr>
        <p:spPr>
          <a:xfrm>
            <a:off x="3584520" y="2714760"/>
            <a:ext cx="190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оритеты бюджетной политик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285840" y="3643200"/>
            <a:ext cx="2408040" cy="14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285840" y="3643200"/>
            <a:ext cx="2357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Обеспечение выполнения обязательств и задач, поставленных указами Президента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Российской Федерации от 7 мая 2012 год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AutoShape 8"/>
          <p:cNvGrpSpPr/>
          <p:nvPr/>
        </p:nvGrpSpPr>
        <p:grpSpPr>
          <a:xfrm>
            <a:off x="615960" y="1200240"/>
            <a:ext cx="2571840" cy="1939680"/>
            <a:chOff x="615960" y="1200240"/>
            <a:chExt cx="2571840" cy="1939680"/>
          </a:xfrm>
        </p:grpSpPr>
        <p:pic>
          <p:nvPicPr>
            <p:cNvPr id="361" name="AutoShape 8" descr=""/>
            <p:cNvPicPr/>
            <p:nvPr/>
          </p:nvPicPr>
          <p:blipFill>
            <a:blip r:embed="rId4"/>
            <a:stretch/>
          </p:blipFill>
          <p:spPr>
            <a:xfrm>
              <a:off x="615960" y="1200240"/>
              <a:ext cx="2571840" cy="19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703440" y="1290600"/>
              <a:ext cx="240012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AutoShape 9"/>
          <p:cNvSpPr/>
          <p:nvPr/>
        </p:nvSpPr>
        <p:spPr>
          <a:xfrm>
            <a:off x="755640" y="1341360"/>
            <a:ext cx="2303640" cy="1582920"/>
          </a:xfrm>
          <a:prstGeom prst="flowChartAlternateProcess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755640" y="1341360"/>
            <a:ext cx="2316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еспечение обязательств в сфере образования, культуры и спорта с учетом определения объема муниципальных услуг в данных сферах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AutoShape 12"/>
          <p:cNvGrpSpPr/>
          <p:nvPr/>
        </p:nvGrpSpPr>
        <p:grpSpPr>
          <a:xfrm>
            <a:off x="6046920" y="3870360"/>
            <a:ext cx="2573280" cy="1628640"/>
            <a:chOff x="6046920" y="3870360"/>
            <a:chExt cx="2573280" cy="1628640"/>
          </a:xfrm>
        </p:grpSpPr>
        <p:pic>
          <p:nvPicPr>
            <p:cNvPr id="366" name="AutoShape 12" descr=""/>
            <p:cNvPicPr/>
            <p:nvPr/>
          </p:nvPicPr>
          <p:blipFill>
            <a:blip r:embed="rId5"/>
            <a:stretch/>
          </p:blipFill>
          <p:spPr>
            <a:xfrm>
              <a:off x="6046920" y="3870360"/>
              <a:ext cx="257328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126120" y="3944880"/>
              <a:ext cx="2425680" cy="14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AutoShape 13"/>
          <p:cNvSpPr/>
          <p:nvPr/>
        </p:nvSpPr>
        <p:spPr>
          <a:xfrm>
            <a:off x="6156360" y="4000680"/>
            <a:ext cx="2303280" cy="12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6227640" y="4143240"/>
            <a:ext cx="225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беспечение прозрачности и открытости муниципальных финанс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AutoShape 16"/>
          <p:cNvGrpSpPr/>
          <p:nvPr/>
        </p:nvGrpSpPr>
        <p:grpSpPr>
          <a:xfrm>
            <a:off x="5778360" y="1109520"/>
            <a:ext cx="2573640" cy="1627200"/>
            <a:chOff x="5778360" y="1109520"/>
            <a:chExt cx="2573640" cy="1627200"/>
          </a:xfrm>
        </p:grpSpPr>
        <p:pic>
          <p:nvPicPr>
            <p:cNvPr id="371" name="AutoShape 16" descr=""/>
            <p:cNvPicPr/>
            <p:nvPr/>
          </p:nvPicPr>
          <p:blipFill>
            <a:blip r:embed="rId6"/>
            <a:stretch/>
          </p:blipFill>
          <p:spPr>
            <a:xfrm>
              <a:off x="5778360" y="1109520"/>
              <a:ext cx="257364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856120" y="1184400"/>
              <a:ext cx="2424240" cy="14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17"/>
          <p:cNvSpPr/>
          <p:nvPr/>
        </p:nvSpPr>
        <p:spPr>
          <a:xfrm>
            <a:off x="5940360" y="1341360"/>
            <a:ext cx="223200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5867280" y="1484280"/>
            <a:ext cx="231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8a94"/>
                </a:solidFill>
                <a:latin typeface="Times New Roman"/>
                <a:ea typeface="Times New Roman"/>
              </a:rPr>
              <a:t>Повышение эффективности бюджетных расход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2687400" y="1725120"/>
            <a:ext cx="3636000" cy="3620160"/>
            <a:chOff x="2687400" y="1725120"/>
            <a:chExt cx="3636000" cy="3620160"/>
          </a:xfrm>
        </p:grpSpPr>
        <p:sp>
          <p:nvSpPr>
            <p:cNvPr id="376" name="AutoShape 21"/>
            <p:cNvSpPr/>
            <p:nvPr/>
          </p:nvSpPr>
          <p:spPr>
            <a:xfrm rot="6774000">
              <a:off x="3152880" y="2276280"/>
              <a:ext cx="267948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6699"/>
                </a:gs>
              </a:gsLst>
              <a:lin ang="175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2"/>
            <p:cNvSpPr/>
            <p:nvPr/>
          </p:nvSpPr>
          <p:spPr>
            <a:xfrm rot="12174000">
              <a:off x="3095640" y="225864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a3b2c1"/>
                </a:gs>
              </a:gsLst>
              <a:lin ang="121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3"/>
            <p:cNvSpPr/>
            <p:nvPr/>
          </p:nvSpPr>
          <p:spPr>
            <a:xfrm rot="17574600">
              <a:off x="3192480" y="2152080"/>
              <a:ext cx="2679480" cy="2641680"/>
            </a:xfrm>
            <a:prstGeom prst="pie">
              <a:avLst/>
            </a:prstGeom>
            <a:gradFill rotWithShape="0">
              <a:gsLst>
                <a:gs pos="0">
                  <a:srgbClr val="000306"/>
                </a:gs>
                <a:gs pos="100000">
                  <a:srgbClr val="003366"/>
                </a:gs>
              </a:gsLst>
              <a:lin ang="67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24"/>
            <p:cNvSpPr/>
            <p:nvPr/>
          </p:nvSpPr>
          <p:spPr>
            <a:xfrm rot="1374000">
              <a:off x="3234960" y="220968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00"/>
                </a:gs>
              </a:gsLst>
              <a:lin ang="13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AutoShape 12"/>
          <p:cNvGrpSpPr/>
          <p:nvPr/>
        </p:nvGrpSpPr>
        <p:grpSpPr>
          <a:xfrm>
            <a:off x="2840040" y="5241960"/>
            <a:ext cx="2573280" cy="1628640"/>
            <a:chOff x="2840040" y="5241960"/>
            <a:chExt cx="2573280" cy="1628640"/>
          </a:xfrm>
        </p:grpSpPr>
        <p:pic>
          <p:nvPicPr>
            <p:cNvPr id="381" name="AutoShape 12" descr=""/>
            <p:cNvPicPr/>
            <p:nvPr/>
          </p:nvPicPr>
          <p:blipFill>
            <a:blip r:embed="rId7"/>
            <a:stretch/>
          </p:blipFill>
          <p:spPr>
            <a:xfrm>
              <a:off x="2840040" y="5241960"/>
              <a:ext cx="257328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916360" y="5316480"/>
              <a:ext cx="2425680" cy="14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AutoShape 13"/>
          <p:cNvSpPr/>
          <p:nvPr/>
        </p:nvSpPr>
        <p:spPr>
          <a:xfrm>
            <a:off x="2916360" y="5386320"/>
            <a:ext cx="2408040" cy="13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2916360" y="54450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беспечение сбалансированности и финансовой устойчивости районного бюджет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0010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Основные приоритеты бюджетной политик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C43D-809A-445C-A407-980C880FB2C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6" descr="16396227_f.jpg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37984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29"/>
          <p:cNvSpPr/>
          <p:nvPr/>
        </p:nvSpPr>
        <p:spPr>
          <a:xfrm>
            <a:off x="324000" y="1125360"/>
            <a:ext cx="8439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оекта бюджета осуществляется по кодам бюджетной классификаци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юджетная классификация Российской Федерац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уппировка доходов, расходов и источников финансирования дефицитов бюджетов бюджетной системы Российской Федерации, используемая для составления и исполнения бюджетов, составления бюджетной отчетности, обеспечивающей сопоставимость показателей бюджетов бюджетной системы Российской Федер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"/>
          <p:cNvSpPr/>
          <p:nvPr/>
        </p:nvSpPr>
        <p:spPr>
          <a:xfrm>
            <a:off x="34920" y="115920"/>
            <a:ext cx="82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юджетная 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лассифик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Рисунок 51" descr="16396227_f.jpg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3798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102"/>
          <p:cNvSpPr/>
          <p:nvPr/>
        </p:nvSpPr>
        <p:spPr>
          <a:xfrm>
            <a:off x="50004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03"/>
          <p:cNvSpPr/>
          <p:nvPr/>
        </p:nvSpPr>
        <p:spPr>
          <a:xfrm>
            <a:off x="1429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4"/>
          <p:cNvSpPr/>
          <p:nvPr/>
        </p:nvSpPr>
        <p:spPr>
          <a:xfrm>
            <a:off x="121428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5"/>
          <p:cNvSpPr/>
          <p:nvPr/>
        </p:nvSpPr>
        <p:spPr>
          <a:xfrm>
            <a:off x="85716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6"/>
          <p:cNvSpPr/>
          <p:nvPr/>
        </p:nvSpPr>
        <p:spPr>
          <a:xfrm>
            <a:off x="19288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7"/>
          <p:cNvSpPr/>
          <p:nvPr/>
        </p:nvSpPr>
        <p:spPr>
          <a:xfrm>
            <a:off x="157176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8"/>
          <p:cNvSpPr/>
          <p:nvPr/>
        </p:nvSpPr>
        <p:spPr>
          <a:xfrm>
            <a:off x="257184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09"/>
          <p:cNvSpPr/>
          <p:nvPr/>
        </p:nvSpPr>
        <p:spPr>
          <a:xfrm>
            <a:off x="22147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10"/>
          <p:cNvSpPr/>
          <p:nvPr/>
        </p:nvSpPr>
        <p:spPr>
          <a:xfrm>
            <a:off x="4572000" y="38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11"/>
          <p:cNvSpPr/>
          <p:nvPr/>
        </p:nvSpPr>
        <p:spPr>
          <a:xfrm>
            <a:off x="2928960" y="34290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2"/>
          <p:cNvSpPr/>
          <p:nvPr/>
        </p:nvSpPr>
        <p:spPr>
          <a:xfrm>
            <a:off x="42148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13"/>
          <p:cNvSpPr/>
          <p:nvPr/>
        </p:nvSpPr>
        <p:spPr>
          <a:xfrm>
            <a:off x="371484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14"/>
          <p:cNvSpPr/>
          <p:nvPr/>
        </p:nvSpPr>
        <p:spPr>
          <a:xfrm>
            <a:off x="521496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15"/>
          <p:cNvSpPr/>
          <p:nvPr/>
        </p:nvSpPr>
        <p:spPr>
          <a:xfrm>
            <a:off x="471492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47"/>
          <p:cNvSpPr/>
          <p:nvPr/>
        </p:nvSpPr>
        <p:spPr>
          <a:xfrm>
            <a:off x="57150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48"/>
          <p:cNvSpPr/>
          <p:nvPr/>
        </p:nvSpPr>
        <p:spPr>
          <a:xfrm>
            <a:off x="621504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49"/>
          <p:cNvSpPr/>
          <p:nvPr/>
        </p:nvSpPr>
        <p:spPr>
          <a:xfrm>
            <a:off x="821520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50"/>
          <p:cNvSpPr/>
          <p:nvPr/>
        </p:nvSpPr>
        <p:spPr>
          <a:xfrm>
            <a:off x="771516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51"/>
          <p:cNvSpPr/>
          <p:nvPr/>
        </p:nvSpPr>
        <p:spPr>
          <a:xfrm>
            <a:off x="721512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52"/>
          <p:cNvSpPr/>
          <p:nvPr/>
        </p:nvSpPr>
        <p:spPr>
          <a:xfrm>
            <a:off x="6643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61"/>
          <p:cNvSpPr/>
          <p:nvPr/>
        </p:nvSpPr>
        <p:spPr>
          <a:xfrm>
            <a:off x="142920" y="1857240"/>
            <a:ext cx="1285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о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62"/>
          <p:cNvSpPr/>
          <p:nvPr/>
        </p:nvSpPr>
        <p:spPr>
          <a:xfrm>
            <a:off x="1000080" y="100008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бюдже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63"/>
          <p:cNvSpPr/>
          <p:nvPr/>
        </p:nvSpPr>
        <p:spPr>
          <a:xfrm>
            <a:off x="1357200" y="1857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, подгрупп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5"/>
          <p:cNvSpPr/>
          <p:nvPr/>
        </p:nvSpPr>
        <p:spPr>
          <a:xfrm>
            <a:off x="3000240" y="18572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, подстатья, элемен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6"/>
          <p:cNvSpPr/>
          <p:nvPr/>
        </p:nvSpPr>
        <p:spPr>
          <a:xfrm>
            <a:off x="5572080" y="1857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д доход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67"/>
          <p:cNvSpPr/>
          <p:nvPr/>
        </p:nvSpPr>
        <p:spPr>
          <a:xfrm>
            <a:off x="7358040" y="1928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ГУ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41"/>
          <p:cNvSpPr/>
          <p:nvPr/>
        </p:nvSpPr>
        <p:spPr>
          <a:xfrm>
            <a:off x="0" y="14292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иный 20-значный код классифика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44"/>
          <p:cNvSpPr/>
          <p:nvPr/>
        </p:nvSpPr>
        <p:spPr>
          <a:xfrm>
            <a:off x="336096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45"/>
          <p:cNvSpPr/>
          <p:nvPr/>
        </p:nvSpPr>
        <p:spPr>
          <a:xfrm rot="5400000">
            <a:off x="445680" y="2554200"/>
            <a:ext cx="608040" cy="1071720"/>
          </a:xfrm>
          <a:custGeom>
            <a:avLst/>
            <a:gdLst>
              <a:gd name="textAreaLeft" fmla="*/ 388440 w 608040"/>
              <a:gd name="textAreaRight" fmla="*/ 608400 w 608040"/>
              <a:gd name="textAreaTop" fmla="*/ 15840 h 1071720"/>
              <a:gd name="textAreaBottom" fmla="*/ 105588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11"/>
                  <a:pt x="10800" y="1021"/>
                </a:cubicBezTo>
                <a:lnTo>
                  <a:pt x="10800" y="9070"/>
                </a:lnTo>
                <a:cubicBezTo>
                  <a:pt x="10800" y="9581"/>
                  <a:pt x="5400" y="10091"/>
                  <a:pt x="0" y="10091"/>
                </a:cubicBezTo>
                <a:cubicBezTo>
                  <a:pt x="5400" y="10091"/>
                  <a:pt x="10800" y="10602"/>
                  <a:pt x="10800" y="11112"/>
                </a:cubicBezTo>
                <a:lnTo>
                  <a:pt x="10800" y="20579"/>
                </a:lnTo>
                <a:cubicBezTo>
                  <a:pt x="10800" y="2109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46"/>
          <p:cNvSpPr/>
          <p:nvPr/>
        </p:nvSpPr>
        <p:spPr>
          <a:xfrm rot="5400000">
            <a:off x="1500120" y="2643120"/>
            <a:ext cx="642960" cy="928800"/>
          </a:xfrm>
          <a:custGeom>
            <a:avLst/>
            <a:gdLst>
              <a:gd name="textAreaLeft" fmla="*/ 410760 w 642960"/>
              <a:gd name="textAreaRight" fmla="*/ 642960 w 642960"/>
              <a:gd name="textAreaTop" fmla="*/ 19800 h 928800"/>
              <a:gd name="textAreaBottom" fmla="*/ 9090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8"/>
                  <a:pt x="10800" y="1476"/>
                </a:cubicBezTo>
                <a:lnTo>
                  <a:pt x="10800" y="8615"/>
                </a:lnTo>
                <a:cubicBezTo>
                  <a:pt x="10800" y="9353"/>
                  <a:pt x="5400" y="10091"/>
                  <a:pt x="0" y="10091"/>
                </a:cubicBezTo>
                <a:cubicBezTo>
                  <a:pt x="5400" y="10091"/>
                  <a:pt x="10800" y="10829"/>
                  <a:pt x="10800" y="11567"/>
                </a:cubicBezTo>
                <a:lnTo>
                  <a:pt x="10800" y="20124"/>
                </a:lnTo>
                <a:cubicBezTo>
                  <a:pt x="10800" y="2086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48"/>
          <p:cNvSpPr/>
          <p:nvPr/>
        </p:nvSpPr>
        <p:spPr>
          <a:xfrm rot="5400000">
            <a:off x="3500280" y="1642680"/>
            <a:ext cx="642960" cy="2928960"/>
          </a:xfrm>
          <a:custGeom>
            <a:avLst/>
            <a:gdLst>
              <a:gd name="textAreaLeft" fmla="*/ 410760 w 642960"/>
              <a:gd name="textAreaRight" fmla="*/ 642960 w 642960"/>
              <a:gd name="textAreaTop" fmla="*/ 19800 h 2928960"/>
              <a:gd name="textAreaBottom" fmla="*/ 2909160 h 292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4"/>
                  <a:pt x="10800" y="468"/>
                </a:cubicBezTo>
                <a:lnTo>
                  <a:pt x="10800" y="9623"/>
                </a:lnTo>
                <a:cubicBezTo>
                  <a:pt x="10800" y="9857"/>
                  <a:pt x="5400" y="10091"/>
                  <a:pt x="0" y="10091"/>
                </a:cubicBezTo>
                <a:cubicBezTo>
                  <a:pt x="5400" y="10091"/>
                  <a:pt x="10800" y="10325"/>
                  <a:pt x="10800" y="10559"/>
                </a:cubicBezTo>
                <a:lnTo>
                  <a:pt x="10800" y="21132"/>
                </a:lnTo>
                <a:cubicBezTo>
                  <a:pt x="10800" y="2136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49"/>
          <p:cNvSpPr/>
          <p:nvPr/>
        </p:nvSpPr>
        <p:spPr>
          <a:xfrm rot="5400000">
            <a:off x="5946480" y="2197080"/>
            <a:ext cx="608040" cy="1785960"/>
          </a:xfrm>
          <a:custGeom>
            <a:avLst/>
            <a:gdLst>
              <a:gd name="textAreaLeft" fmla="*/ 388440 w 608040"/>
              <a:gd name="textAreaRight" fmla="*/ 608400 w 608040"/>
              <a:gd name="textAreaTop" fmla="*/ 18720 h 1785960"/>
              <a:gd name="textAreaBottom" fmla="*/ 176724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6"/>
                </a:cubicBezTo>
                <a:lnTo>
                  <a:pt x="10800" y="9365"/>
                </a:lnTo>
                <a:cubicBezTo>
                  <a:pt x="10800" y="9728"/>
                  <a:pt x="5400" y="10091"/>
                  <a:pt x="0" y="10091"/>
                </a:cubicBezTo>
                <a:cubicBezTo>
                  <a:pt x="5400" y="10091"/>
                  <a:pt x="10800" y="10454"/>
                  <a:pt x="10800" y="10817"/>
                </a:cubicBezTo>
                <a:lnTo>
                  <a:pt x="10800" y="20874"/>
                </a:lnTo>
                <a:cubicBezTo>
                  <a:pt x="10800" y="2123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Левая фигурная скобка 50"/>
          <p:cNvSpPr/>
          <p:nvPr/>
        </p:nvSpPr>
        <p:spPr>
          <a:xfrm rot="5400000">
            <a:off x="7625520" y="2446920"/>
            <a:ext cx="608040" cy="1285920"/>
          </a:xfrm>
          <a:custGeom>
            <a:avLst/>
            <a:gdLst>
              <a:gd name="textAreaLeft" fmla="*/ 388440 w 608040"/>
              <a:gd name="textAreaRight" fmla="*/ 608400 w 608040"/>
              <a:gd name="textAreaTop" fmla="*/ 18720 h 1285920"/>
              <a:gd name="textAreaBottom" fmla="*/ 12672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4"/>
                  <a:pt x="10800" y="1008"/>
                </a:cubicBezTo>
                <a:lnTo>
                  <a:pt x="10800" y="9083"/>
                </a:lnTo>
                <a:cubicBezTo>
                  <a:pt x="10800" y="9587"/>
                  <a:pt x="5400" y="10091"/>
                  <a:pt x="0" y="10091"/>
                </a:cubicBezTo>
                <a:cubicBezTo>
                  <a:pt x="5400" y="10091"/>
                  <a:pt x="10800" y="10595"/>
                  <a:pt x="10800" y="11099"/>
                </a:cubicBezTo>
                <a:lnTo>
                  <a:pt x="10800" y="20592"/>
                </a:lnTo>
                <a:cubicBezTo>
                  <a:pt x="10800" y="2109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Левая фигурная скобка 53"/>
          <p:cNvSpPr/>
          <p:nvPr/>
        </p:nvSpPr>
        <p:spPr>
          <a:xfrm rot="16200000">
            <a:off x="446040" y="3625560"/>
            <a:ext cx="608040" cy="1071720"/>
          </a:xfrm>
          <a:custGeom>
            <a:avLst/>
            <a:gdLst>
              <a:gd name="textAreaLeft" fmla="*/ 388440 w 608040"/>
              <a:gd name="textAreaRight" fmla="*/ 608400 w 608040"/>
              <a:gd name="textAreaTop" fmla="*/ 15840 h 1071720"/>
              <a:gd name="textAreaBottom" fmla="*/ 105588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11"/>
                  <a:pt x="10800" y="1021"/>
                </a:cubicBezTo>
                <a:lnTo>
                  <a:pt x="10800" y="9244"/>
                </a:lnTo>
                <a:cubicBezTo>
                  <a:pt x="10800" y="9755"/>
                  <a:pt x="5400" y="10265"/>
                  <a:pt x="0" y="10265"/>
                </a:cubicBezTo>
                <a:cubicBezTo>
                  <a:pt x="5400" y="10265"/>
                  <a:pt x="10800" y="10776"/>
                  <a:pt x="10800" y="11286"/>
                </a:cubicBezTo>
                <a:lnTo>
                  <a:pt x="10800" y="20579"/>
                </a:lnTo>
                <a:cubicBezTo>
                  <a:pt x="10800" y="2109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Левая фигурная скобка 52"/>
          <p:cNvSpPr/>
          <p:nvPr/>
        </p:nvSpPr>
        <p:spPr>
          <a:xfrm rot="16200000">
            <a:off x="1338840" y="3875400"/>
            <a:ext cx="608040" cy="571680"/>
          </a:xfrm>
          <a:custGeom>
            <a:avLst/>
            <a:gdLst>
              <a:gd name="textAreaLeft" fmla="*/ 388440 w 608040"/>
              <a:gd name="textAreaRight" fmla="*/ 608400 w 608040"/>
              <a:gd name="textAreaTop" fmla="*/ 17640 h 571680"/>
              <a:gd name="textAreaBottom" fmla="*/ 55404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66"/>
                  <a:pt x="10800" y="2132"/>
                </a:cubicBezTo>
                <a:lnTo>
                  <a:pt x="10800" y="7959"/>
                </a:lnTo>
                <a:cubicBezTo>
                  <a:pt x="10800" y="9025"/>
                  <a:pt x="5400" y="10091"/>
                  <a:pt x="0" y="10091"/>
                </a:cubicBezTo>
                <a:cubicBezTo>
                  <a:pt x="5400" y="10091"/>
                  <a:pt x="10800" y="11157"/>
                  <a:pt x="10800" y="12223"/>
                </a:cubicBezTo>
                <a:lnTo>
                  <a:pt x="10800" y="19468"/>
                </a:lnTo>
                <a:cubicBezTo>
                  <a:pt x="10800" y="2053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54"/>
          <p:cNvSpPr/>
          <p:nvPr/>
        </p:nvSpPr>
        <p:spPr>
          <a:xfrm rot="16200000">
            <a:off x="2017440" y="3839760"/>
            <a:ext cx="608040" cy="642960"/>
          </a:xfrm>
          <a:custGeom>
            <a:avLst/>
            <a:gdLst>
              <a:gd name="textAreaLeft" fmla="*/ 388440 w 608040"/>
              <a:gd name="textAreaRight" fmla="*/ 608400 w 608040"/>
              <a:gd name="textAreaTop" fmla="*/ 18720 h 642960"/>
              <a:gd name="textAreaBottom" fmla="*/ 6242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8"/>
                  <a:pt x="10800" y="2016"/>
                </a:cubicBezTo>
                <a:lnTo>
                  <a:pt x="10800" y="8075"/>
                </a:lnTo>
                <a:cubicBezTo>
                  <a:pt x="10800" y="9083"/>
                  <a:pt x="5400" y="10091"/>
                  <a:pt x="0" y="10091"/>
                </a:cubicBezTo>
                <a:cubicBezTo>
                  <a:pt x="5400" y="10091"/>
                  <a:pt x="10800" y="11099"/>
                  <a:pt x="10800" y="12107"/>
                </a:cubicBezTo>
                <a:lnTo>
                  <a:pt x="10800" y="19584"/>
                </a:lnTo>
                <a:cubicBezTo>
                  <a:pt x="10800" y="2059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5"/>
          <p:cNvSpPr/>
          <p:nvPr/>
        </p:nvSpPr>
        <p:spPr>
          <a:xfrm rot="16200000">
            <a:off x="3946320" y="2625480"/>
            <a:ext cx="608040" cy="3071520"/>
          </a:xfrm>
          <a:custGeom>
            <a:avLst/>
            <a:gdLst>
              <a:gd name="textAreaLeft" fmla="*/ 388440 w 608040"/>
              <a:gd name="textAreaRight" fmla="*/ 608400 w 608040"/>
              <a:gd name="textAreaTop" fmla="*/ 18720 h 3071520"/>
              <a:gd name="textAreaBottom" fmla="*/ 3052800 h 307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1"/>
                  <a:pt x="10800" y="422"/>
                </a:cubicBezTo>
                <a:lnTo>
                  <a:pt x="10800" y="9669"/>
                </a:lnTo>
                <a:cubicBezTo>
                  <a:pt x="10800" y="9880"/>
                  <a:pt x="5400" y="10091"/>
                  <a:pt x="0" y="10091"/>
                </a:cubicBezTo>
                <a:cubicBezTo>
                  <a:pt x="5400" y="10091"/>
                  <a:pt x="10800" y="10302"/>
                  <a:pt x="10800" y="10513"/>
                </a:cubicBezTo>
                <a:lnTo>
                  <a:pt x="10800" y="21178"/>
                </a:lnTo>
                <a:cubicBezTo>
                  <a:pt x="10800" y="2138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56"/>
          <p:cNvSpPr/>
          <p:nvPr/>
        </p:nvSpPr>
        <p:spPr>
          <a:xfrm rot="16200000">
            <a:off x="6196680" y="3518280"/>
            <a:ext cx="608040" cy="1285920"/>
          </a:xfrm>
          <a:custGeom>
            <a:avLst/>
            <a:gdLst>
              <a:gd name="textAreaLeft" fmla="*/ 388440 w 608040"/>
              <a:gd name="textAreaRight" fmla="*/ 608400 w 608040"/>
              <a:gd name="textAreaTop" fmla="*/ 18720 h 1285920"/>
              <a:gd name="textAreaBottom" fmla="*/ 12672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4"/>
                  <a:pt x="10800" y="1008"/>
                </a:cubicBezTo>
                <a:lnTo>
                  <a:pt x="10800" y="9083"/>
                </a:lnTo>
                <a:cubicBezTo>
                  <a:pt x="10800" y="9587"/>
                  <a:pt x="5400" y="10091"/>
                  <a:pt x="0" y="10091"/>
                </a:cubicBezTo>
                <a:cubicBezTo>
                  <a:pt x="5400" y="10091"/>
                  <a:pt x="10800" y="10595"/>
                  <a:pt x="10800" y="11099"/>
                </a:cubicBezTo>
                <a:lnTo>
                  <a:pt x="10800" y="20592"/>
                </a:lnTo>
                <a:cubicBezTo>
                  <a:pt x="10800" y="2109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57"/>
          <p:cNvSpPr/>
          <p:nvPr/>
        </p:nvSpPr>
        <p:spPr>
          <a:xfrm rot="16200000">
            <a:off x="7625520" y="3518280"/>
            <a:ext cx="608040" cy="1285920"/>
          </a:xfrm>
          <a:custGeom>
            <a:avLst/>
            <a:gdLst>
              <a:gd name="textAreaLeft" fmla="*/ 388440 w 608040"/>
              <a:gd name="textAreaRight" fmla="*/ 608400 w 608040"/>
              <a:gd name="textAreaTop" fmla="*/ 18720 h 1285920"/>
              <a:gd name="textAreaBottom" fmla="*/ 12672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4"/>
                  <a:pt x="10800" y="1008"/>
                </a:cubicBezTo>
                <a:lnTo>
                  <a:pt x="10800" y="9083"/>
                </a:lnTo>
                <a:cubicBezTo>
                  <a:pt x="10800" y="9587"/>
                  <a:pt x="5400" y="10091"/>
                  <a:pt x="0" y="10091"/>
                </a:cubicBezTo>
                <a:cubicBezTo>
                  <a:pt x="5400" y="10091"/>
                  <a:pt x="10800" y="10595"/>
                  <a:pt x="10800" y="11099"/>
                </a:cubicBezTo>
                <a:lnTo>
                  <a:pt x="10800" y="20592"/>
                </a:lnTo>
                <a:cubicBezTo>
                  <a:pt x="10800" y="2109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73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61"/>
          <p:cNvSpPr/>
          <p:nvPr/>
        </p:nvSpPr>
        <p:spPr>
          <a:xfrm>
            <a:off x="250920" y="4508640"/>
            <a:ext cx="136836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распоряди-тель бюджетных средств (ГРБС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63"/>
          <p:cNvSpPr/>
          <p:nvPr/>
        </p:nvSpPr>
        <p:spPr>
          <a:xfrm>
            <a:off x="1357200" y="4714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, подразде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65"/>
          <p:cNvSpPr/>
          <p:nvPr/>
        </p:nvSpPr>
        <p:spPr>
          <a:xfrm>
            <a:off x="2857680" y="471492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ая стать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67"/>
          <p:cNvSpPr/>
          <p:nvPr/>
        </p:nvSpPr>
        <p:spPr>
          <a:xfrm>
            <a:off x="7429680" y="4714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Г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65"/>
          <p:cNvSpPr/>
          <p:nvPr/>
        </p:nvSpPr>
        <p:spPr>
          <a:xfrm>
            <a:off x="5429160" y="471492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62"/>
          <p:cNvSpPr/>
          <p:nvPr/>
        </p:nvSpPr>
        <p:spPr>
          <a:xfrm>
            <a:off x="1295280" y="551016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бюдже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62"/>
          <p:cNvSpPr/>
          <p:nvPr/>
        </p:nvSpPr>
        <p:spPr>
          <a:xfrm>
            <a:off x="0" y="6000840"/>
            <a:ext cx="90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*КОСГУ – классификатор операций сектора государственного управлен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99E8-EEE8-4D97-815D-35A51DD8FCB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Rectangle 2"/>
          <p:cNvGrpSpPr/>
          <p:nvPr/>
        </p:nvGrpSpPr>
        <p:grpSpPr>
          <a:xfrm>
            <a:off x="0" y="692280"/>
            <a:ext cx="9369360" cy="2036520"/>
            <a:chOff x="0" y="692280"/>
            <a:chExt cx="9369360" cy="2036520"/>
          </a:xfrm>
        </p:grpSpPr>
        <p:pic>
          <p:nvPicPr>
            <p:cNvPr id="439" name="Rectangle 2" descr=""/>
            <p:cNvPicPr/>
            <p:nvPr/>
          </p:nvPicPr>
          <p:blipFill>
            <a:blip r:embed="rId2"/>
            <a:stretch/>
          </p:blipFill>
          <p:spPr>
            <a:xfrm>
              <a:off x="0" y="692280"/>
              <a:ext cx="9369360" cy="20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6480" y="698400"/>
              <a:ext cx="9358200" cy="20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 u="sng">
                  <a:solidFill>
                    <a:srgbClr val="633f32"/>
                  </a:solidFill>
                  <a:uFillTx/>
                  <a:latin typeface="Cambria"/>
                </a:rPr>
                <a:t>Проект решения о бюджете</a:t>
              </a:r>
              <a:r>
                <a:rPr b="1" i="1" lang="ru-RU" sz="2500" spc="-1" strike="noStrike" u="sng">
                  <a:solidFill>
                    <a:srgbClr val="633f32"/>
                  </a:solidFill>
                  <a:uFillTx/>
                  <a:latin typeface="Arial"/>
                </a:rPr>
                <a:t> проходит</a:t>
              </a:r>
              <a:r>
                <a:rPr b="1" i="1" lang="ru-RU" sz="2500" spc="-1" strike="noStrike" u="sng">
                  <a:solidFill>
                    <a:srgbClr val="633f32"/>
                  </a:solidFill>
                  <a:uFillTx/>
                  <a:latin typeface="Cambria"/>
                </a:rPr>
                <a:t>:</a:t>
              </a: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7030a0"/>
                  </a:solidFill>
                  <a:latin typeface="Arial"/>
                </a:rPr>
                <a:t>проверку контрольно – счетной палатой</a:t>
              </a:r>
              <a:r>
                <a:rPr b="1" lang="ru-RU" sz="2000" spc="-1" strike="noStrike">
                  <a:solidFill>
                    <a:srgbClr val="7030a0"/>
                  </a:solidFill>
                  <a:latin typeface="Cambri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7030a0"/>
                  </a:solidFill>
                  <a:latin typeface="Cambria"/>
                </a:rPr>
                <a:t>обсуждени</a:t>
              </a:r>
              <a:r>
                <a:rPr b="1" lang="ru-RU" sz="2000" spc="-1" strike="noStrike">
                  <a:solidFill>
                    <a:srgbClr val="7030a0"/>
                  </a:solidFill>
                  <a:latin typeface="Arial"/>
                </a:rPr>
                <a:t>е</a:t>
              </a:r>
              <a:r>
                <a:rPr b="1" lang="ru-RU" sz="2000" spc="-1" strike="noStrike">
                  <a:solidFill>
                    <a:srgbClr val="7030a0"/>
                  </a:solidFill>
                  <a:latin typeface="Cambria"/>
                </a:rPr>
                <a:t> на публичных слушаниях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7030a0"/>
                  </a:solidFill>
                  <a:latin typeface="Arial"/>
                </a:rPr>
                <a:t>процедуру </a:t>
              </a:r>
              <a:r>
                <a:rPr b="1" lang="ru-RU" sz="2000" spc="-1" strike="noStrike">
                  <a:solidFill>
                    <a:srgbClr val="7030a0"/>
                  </a:solidFill>
                  <a:latin typeface="Cambria"/>
                </a:rPr>
                <a:t>рассмотрен</a:t>
              </a:r>
              <a:r>
                <a:rPr b="1" lang="ru-RU" sz="2000" spc="-1" strike="noStrike">
                  <a:solidFill>
                    <a:srgbClr val="7030a0"/>
                  </a:solidFill>
                  <a:latin typeface="Arial"/>
                </a:rPr>
                <a:t>ия</a:t>
              </a:r>
              <a:r>
                <a:rPr b="1" lang="ru-RU" sz="2000" spc="-1" strike="noStrike">
                  <a:solidFill>
                    <a:srgbClr val="7030a0"/>
                  </a:solidFill>
                  <a:latin typeface="Cambria"/>
                </a:rPr>
                <a:t> на Совете Александровского муниципального район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1" name="Picture 12" descr="Безимени-3"/>
          <p:cNvPicPr/>
          <p:nvPr/>
        </p:nvPicPr>
        <p:blipFill>
          <a:blip r:embed="rId3"/>
          <a:stretch/>
        </p:blipFill>
        <p:spPr>
          <a:xfrm>
            <a:off x="1835280" y="2674800"/>
            <a:ext cx="53989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56F5-C050-4DE9-BDB9-CD9394263BC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54"/>
          <p:cNvSpPr/>
          <p:nvPr/>
        </p:nvSpPr>
        <p:spPr>
          <a:xfrm>
            <a:off x="539640" y="404640"/>
            <a:ext cx="8305920" cy="1008360"/>
          </a:xfrm>
          <a:prstGeom prst="roundRect">
            <a:avLst>
              <a:gd name="adj" fmla="val 16667"/>
            </a:avLst>
          </a:prstGeom>
          <a:solidFill>
            <a:srgbClr val="ffff66">
              <a:alpha val="50000"/>
            </a:srgbClr>
          </a:solidFill>
          <a:ln w="648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3d54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</a:t>
            </a:r>
            <a:r>
              <a:rPr b="1" lang="ru-RU" sz="2400" spc="-1" strike="noStrike">
                <a:solidFill>
                  <a:srgbClr val="373d54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ступления денежных средств в бюджет о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54"/>
          <p:cNvSpPr/>
          <p:nvPr/>
        </p:nvSpPr>
        <p:spPr>
          <a:xfrm>
            <a:off x="2843280" y="1916280"/>
            <a:ext cx="6072120" cy="41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090"/>
              </a:gs>
              <a:gs pos="100000">
                <a:srgbClr val="ffe0e0"/>
              </a:gs>
            </a:gsLst>
            <a:lin ang="16200000"/>
          </a:gradFill>
          <a:ln w="9360">
            <a:solidFill>
              <a:srgbClr val="cc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логовых доходов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налог на доходы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ческих лиц, единый налог на вмененный доход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диный сельхозналог, госпошлина и др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налоговых доходов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аренда имущества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ренда земли, штрафы, доходы от платных услуг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зенных учреждений и др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звозмездных поступлен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ов других уровней в вид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бюджетных трансфертов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таций, субсидий, субвенций 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х межбюджетных трансфертов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9" descr="Кошелек In"/>
          <p:cNvPicPr/>
          <p:nvPr/>
        </p:nvPicPr>
        <p:blipFill>
          <a:blip r:embed="rId2"/>
          <a:stretch/>
        </p:blipFill>
        <p:spPr>
          <a:xfrm>
            <a:off x="0" y="1844640"/>
            <a:ext cx="27525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8:06:32Z</dcterms:created>
  <dc:creator>natmat</dc:creator>
  <dc:description/>
  <dc:language>en-US</dc:language>
  <cp:lastModifiedBy>ФУ</cp:lastModifiedBy>
  <dcterms:modified xsi:type="dcterms:W3CDTF">2014-12-31T04:30:38Z</dcterms:modified>
  <cp:revision>744</cp:revision>
  <dc:subject/>
  <dc:title>ThemeGallery PowerTemplate</dc:title>
</cp:coreProperties>
</file>